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ACB75-1FA9-4BAF-AE82-0B4E133D9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FC441-A9A2-4426-B7C7-40BE84FD1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245E2-10F8-4164-9EC5-51B826B57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2EE3A-5063-42FD-8032-E83670665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72634-7AAB-40F7-BFA0-3D71FF704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04890-450A-460A-B82A-BD61B27C9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695D7-6034-4DFF-99CA-D6DC3462E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3066B-9A8D-4445-B5E5-89AF0157D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D7900-8D8F-4AEF-B365-2492C3EC3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95625-EE77-48B8-B3E2-2330BFF37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F9F35-0588-449C-9FD8-7AB56E962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5E6C0-83B2-4C6F-87F9-79E343205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67C2B-77C6-4986-891D-E9182EE5C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23AE8-4255-4079-AEEE-69ED6E8AA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C08B4-EEEE-41ED-A2AC-B1D91BBEA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73D11-6D5C-4B76-A200-1E184523C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F85A1-EB93-450A-BD71-0BA32E02D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CBB84-0D59-418A-BC78-248FBE672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8CA4F-6DD8-47D7-9B07-01AE77CB3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82DBC-B76B-4238-99B4-B5BF4BDAD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5738A-20EE-4E31-8AAB-5271F61C9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E7D55-7D77-4D6A-BB80-846FFC6FE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4EA0-D206-47BF-A47F-9BE9AE073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6FA30-8C7B-49E6-8282-9F64C52B7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9C4B-F8EA-47E1-8F2B-AA581957E2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68E7-1C83-4271-9575-3C8FF1183F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12.xml"/><Relationship Id="rId4" Type="http://schemas.openxmlformats.org/officeDocument/2006/relationships/slide" Target="slide6.xml"/><Relationship Id="rId5" Type="http://schemas.openxmlformats.org/officeDocument/2006/relationships/slide" Target="slide10.xml"/><Relationship Id="rId6" Type="http://schemas.openxmlformats.org/officeDocument/2006/relationships/slide" Target="slide8.xml"/><Relationship Id="rId7" Type="http://schemas.openxmlformats.org/officeDocument/2006/relationships/slide" Target="slide18.xml"/><Relationship Id="rId8" Type="http://schemas.openxmlformats.org/officeDocument/2006/relationships/slide" Target="slide26.xml"/><Relationship Id="rId9" Type="http://schemas.openxmlformats.org/officeDocument/2006/relationships/slide" Target="slide22.xml"/><Relationship Id="rId10" Type="http://schemas.openxmlformats.org/officeDocument/2006/relationships/slide" Target="slide14.xml"/><Relationship Id="rId11" Type="http://schemas.openxmlformats.org/officeDocument/2006/relationships/slide" Target="slide30.xml"/><Relationship Id="rId12" Type="http://schemas.openxmlformats.org/officeDocument/2006/relationships/slide" Target="slide32.xml"/><Relationship Id="rId13" Type="http://schemas.openxmlformats.org/officeDocument/2006/relationships/slide" Target="slide24.xml"/><Relationship Id="rId14" Type="http://schemas.openxmlformats.org/officeDocument/2006/relationships/slide" Target="slide28.xml"/><Relationship Id="rId15" Type="http://schemas.openxmlformats.org/officeDocument/2006/relationships/slide" Target="slide34.xml"/><Relationship Id="rId16" Type="http://schemas.openxmlformats.org/officeDocument/2006/relationships/slide" Target="slide40.xml"/><Relationship Id="rId17" Type="http://schemas.openxmlformats.org/officeDocument/2006/relationships/slide" Target="slide38.xml"/><Relationship Id="rId1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 name=""/>
          <p:cNvGraphicFramePr/>
          <p:nvPr/>
        </p:nvGraphicFramePr>
        <p:xfrm>
          <a:off x="457200" y="1143000"/>
          <a:ext cx="6765840" cy="4702320"/>
        </p:xfrm>
        <a:graphic>
          <a:graphicData uri="http://schemas.openxmlformats.org/drawingml/2006/table">
            <a:tbl>
              <a:tblPr/>
              <a:tblGrid>
                <a:gridCol w="1692360"/>
                <a:gridCol w="1690560"/>
                <a:gridCol w="1692360"/>
                <a:gridCol w="1690560"/>
              </a:tblGrid>
              <a:tr h="1876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ative Languag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y term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2" action="ppaction://hlinksldjump"/>
                        </a:rPr>
                        <a:t>1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3" action="ppaction://hlinksldjump"/>
                        </a:rPr>
                        <a:t>1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4" action="ppaction://hlinksldjump"/>
                        </a:rPr>
                        <a:t>1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6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5" action="ppaction://hlinksldjump"/>
                        </a:rPr>
                        <a:t>2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6" action="ppaction://hlinksldjump"/>
                        </a:rPr>
                        <a:t>2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7" action="ppaction://hlinksldjump"/>
                        </a:rPr>
                        <a:t>3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8" action="ppaction://hlinksldjump"/>
                        </a:rPr>
                        <a:t>3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9" action="ppaction://hlinksldjump"/>
                        </a:rPr>
                        <a:t>3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0" action="ppaction://hlinksldjump"/>
                        </a:rPr>
                        <a:t>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1" action="ppaction://hlinksldjump"/>
                        </a:rPr>
                        <a:t>4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2" action="ppaction://hlinksldjump"/>
                        </a:rPr>
                        <a:t>4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3" action="ppaction://hlinksldjump"/>
                        </a:rPr>
                        <a:t>4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4" action="ppaction://hlinksldjump"/>
                        </a:rPr>
                        <a:t>4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440">
                      <a:solidFill>
                        <a:srgbClr val="ffffff"/>
                      </a:solidFill>
                    </a:lnB>
                    <a:noFill/>
                  </a:tcPr>
                </a:tc>
              </a:tr>
            </a:tbl>
          </a:graphicData>
        </a:graphic>
      </p:graphicFrame>
      <p:graphicFrame>
        <p:nvGraphicFramePr>
          <p:cNvPr id="83" name=""/>
          <p:cNvGraphicFramePr/>
          <p:nvPr/>
        </p:nvGraphicFramePr>
        <p:xfrm>
          <a:off x="2362320" y="457200"/>
          <a:ext cx="4876560" cy="517680"/>
        </p:xfrm>
        <a:graphic>
          <a:graphicData uri="http://schemas.openxmlformats.org/drawingml/2006/table">
            <a:tbl>
              <a:tblPr/>
              <a:tblGrid>
                <a:gridCol w="487656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ry Terms #20-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84" name=""/>
          <p:cNvGraphicFramePr/>
          <p:nvPr/>
        </p:nvGraphicFramePr>
        <p:xfrm>
          <a:off x="457200" y="5867280"/>
          <a:ext cx="6781680" cy="533520"/>
        </p:xfrm>
        <a:graphic>
          <a:graphicData uri="http://schemas.openxmlformats.org/drawingml/2006/table">
            <a:tbl>
              <a:tblPr/>
              <a:tblGrid>
                <a:gridCol w="1676520"/>
                <a:gridCol w="1676160"/>
                <a:gridCol w="1676520"/>
                <a:gridCol w="1752480"/>
              </a:tblGrid>
              <a:tr h="533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5" action="ppaction://hlinksldjump"/>
                        </a:rPr>
                        <a:t>500</a:t>
                      </a:r>
                      <a:endParaRPr b="0" lang="en-US" sz="2400" spc="-1" strike="noStrike">
                        <a:solidFill>
                          <a:srgbClr val="ffffff"/>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6" action="ppaction://hlinksldjump"/>
                        </a:rPr>
                        <a:t>500</a:t>
                      </a:r>
                      <a:endParaRPr b="0" lang="en-US" sz="2400" spc="-1" strike="noStrike">
                        <a:solidFill>
                          <a:srgbClr val="ffffff"/>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7" action="ppaction://hlinksldjump"/>
                        </a:rPr>
                        <a:t>500</a:t>
                      </a:r>
                      <a:endParaRPr b="0" lang="en-US" sz="2400" spc="-1" strike="noStrike">
                        <a:solidFill>
                          <a:srgbClr val="ffffff"/>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EXAMPLES 2:</a:t>
            </a:r>
            <a:endParaRPr b="0" lang="en-US" sz="4400" spc="-1" strike="noStrike">
              <a:solidFill>
                <a:srgbClr val="e5ffff"/>
              </a:solidFill>
              <a:latin typeface="Arial"/>
            </a:endParaRPr>
          </a:p>
        </p:txBody>
      </p:sp>
      <p:sp>
        <p:nvSpPr>
          <p:cNvPr id="10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ut is telling her story in To Kill a Mockingbird.  What point of view is th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0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Kill a Mockingbird is told in 1st person point of view.  This is because Scout is telling other characters actions but only reveals her own feelings.</a:t>
            </a:r>
            <a:endParaRPr b="0" lang="en-US" sz="3200" spc="-1" strike="noStrike">
              <a:solidFill>
                <a:srgbClr val="ffffff"/>
              </a:solidFill>
              <a:latin typeface="Arial"/>
            </a:endParaRPr>
          </a:p>
        </p:txBody>
      </p:sp>
      <p:sp>
        <p:nvSpPr>
          <p:cNvPr id="110" name="">
            <a:hlinkClick r:id="" action="ppaction://hlinkshowjump?jump=firstslide"/>
          </p:cNvPr>
          <p:cNvSpPr/>
          <p:nvPr/>
        </p:nvSpPr>
        <p:spPr>
          <a:xfrm>
            <a:off x="2438280" y="5029200"/>
            <a:ext cx="1143000" cy="1143000"/>
          </a:xfrm>
          <a:custGeom>
            <a:avLst/>
            <a:gdLst>
              <a:gd name="textAreaLeft" fmla="*/ 73800 w 1143000"/>
              <a:gd name="textAreaRight" fmla="*/ 1069200 w 1143000"/>
              <a:gd name="textAreaTop" fmla="*/ 73800 h 1143000"/>
              <a:gd name="textAreaBottom" fmla="*/ 1069200 h 1143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HARACTERS 1</a:t>
            </a:r>
            <a:endParaRPr b="0" lang="en-US" sz="4400" spc="-1" strike="noStrike">
              <a:solidFill>
                <a:srgbClr val="e5ffff"/>
              </a:solidFill>
              <a:latin typeface="Arial"/>
            </a:endParaRPr>
          </a:p>
        </p:txBody>
      </p:sp>
      <p:sp>
        <p:nvSpPr>
          <p:cNvPr id="11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ould be considered the protagonist in To Kill a Mockingbird, Of Mice and Men, and Julius Caes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1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Kill a Mockingbird: Scout</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Mice and Men: Lenny and George</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ius Caesar: Brutus and Antony</a:t>
            </a:r>
            <a:endParaRPr b="0" lang="en-US" sz="3200" spc="-1" strike="noStrike">
              <a:solidFill>
                <a:srgbClr val="ffffff"/>
              </a:solidFill>
              <a:latin typeface="Arial"/>
            </a:endParaRPr>
          </a:p>
        </p:txBody>
      </p:sp>
      <p:sp>
        <p:nvSpPr>
          <p:cNvPr id="115" name="">
            <a:hlinkClick r:id="" action="ppaction://hlinkshowjump?jump=firstslide"/>
          </p:cNvPr>
          <p:cNvSpPr/>
          <p:nvPr/>
        </p:nvSpPr>
        <p:spPr>
          <a:xfrm>
            <a:off x="2057400" y="48769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3</a:t>
            </a:r>
            <a:endParaRPr b="0" lang="en-US" sz="4400" spc="-1" strike="noStrike">
              <a:solidFill>
                <a:srgbClr val="e5ffff"/>
              </a:solidFill>
              <a:latin typeface="Arial"/>
            </a:endParaRPr>
          </a:p>
        </p:txBody>
      </p:sp>
      <p:sp>
        <p:nvSpPr>
          <p:cNvPr id="11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he resolution in Lamb to the Slaught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1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lice officers and the wife eat the evidence.</a:t>
            </a:r>
            <a:endParaRPr b="0" lang="en-US" sz="3200" spc="-1" strike="noStrike">
              <a:solidFill>
                <a:srgbClr val="ffffff"/>
              </a:solidFill>
              <a:latin typeface="Arial"/>
            </a:endParaRPr>
          </a:p>
        </p:txBody>
      </p:sp>
      <p:sp>
        <p:nvSpPr>
          <p:cNvPr id="120" name="">
            <a:hlinkClick r:id="" action="ppaction://hlinkshowjump?jump=firstslide"/>
          </p:cNvPr>
          <p:cNvSpPr/>
          <p:nvPr/>
        </p:nvSpPr>
        <p:spPr>
          <a:xfrm>
            <a:off x="2666880" y="4800600"/>
            <a:ext cx="1067040" cy="1066680"/>
          </a:xfrm>
          <a:custGeom>
            <a:avLst/>
            <a:gdLst>
              <a:gd name="textAreaLeft" fmla="*/ 69120 w 1067040"/>
              <a:gd name="textAreaRight" fmla="*/ 997920 w 1067040"/>
              <a:gd name="textAreaTop" fmla="*/ 69120 h 1066680"/>
              <a:gd name="textAreaBottom" fmla="*/ 997560 h 106668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5" y="4707"/>
                </a:lnTo>
                <a:lnTo>
                  <a:pt x="15155"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5" y="4707"/>
                </a:lnTo>
                <a:lnTo>
                  <a:pt x="15155"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FIGURATIVE LANGUAGE 2</a:t>
            </a:r>
            <a:endParaRPr b="0" lang="en-US" sz="4400" spc="-1" strike="noStrike">
              <a:solidFill>
                <a:srgbClr val="e5ffff"/>
              </a:solidFill>
              <a:latin typeface="Arial"/>
            </a:endParaRPr>
          </a:p>
        </p:txBody>
      </p:sp>
      <p:sp>
        <p:nvSpPr>
          <p:cNvPr id="12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Shakespeare often use to show the scene was end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2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kespeare used a rhyming couplet to show the scene was ending.</a:t>
            </a:r>
            <a:endParaRPr b="0" lang="en-US" sz="3200" spc="-1" strike="noStrike">
              <a:solidFill>
                <a:srgbClr val="ffffff"/>
              </a:solidFill>
              <a:latin typeface="Arial"/>
            </a:endParaRPr>
          </a:p>
        </p:txBody>
      </p:sp>
      <p:sp>
        <p:nvSpPr>
          <p:cNvPr id="125" name="">
            <a:hlinkClick r:id="" action="ppaction://hlinkshowjump?jump=firstslide"/>
          </p:cNvPr>
          <p:cNvSpPr/>
          <p:nvPr/>
        </p:nvSpPr>
        <p:spPr>
          <a:xfrm>
            <a:off x="3429000" y="4648320"/>
            <a:ext cx="1219320" cy="1143000"/>
          </a:xfrm>
          <a:custGeom>
            <a:avLst/>
            <a:gdLst>
              <a:gd name="textAreaLeft" fmla="*/ 73800 w 1219320"/>
              <a:gd name="textAreaRight" fmla="*/ 1145520 w 1219320"/>
              <a:gd name="textAreaTop" fmla="*/ 73800 h 1143000"/>
              <a:gd name="textAreaBottom" fmla="*/ 1069200 h 1143000"/>
            </a:gdLst>
            <a:ahLst/>
            <a:rect l="textAreaLeft" t="textAreaTop" r="textAreaRight" b="textAreaBottom"/>
            <a:pathLst>
              <a:path w="23042" h="21600">
                <a:moveTo>
                  <a:pt x="0" y="0"/>
                </a:moveTo>
                <a:lnTo>
                  <a:pt x="23042" y="0"/>
                </a:lnTo>
                <a:lnTo>
                  <a:pt x="23042" y="21600"/>
                </a:lnTo>
                <a:lnTo>
                  <a:pt x="0" y="21600"/>
                </a:lnTo>
                <a:close/>
              </a:path>
              <a:path fill="lightenLess" w="23042" h="21600">
                <a:moveTo>
                  <a:pt x="0" y="0"/>
                </a:moveTo>
                <a:lnTo>
                  <a:pt x="23042" y="0"/>
                </a:lnTo>
                <a:lnTo>
                  <a:pt x="21642" y="1400"/>
                </a:lnTo>
                <a:lnTo>
                  <a:pt x="1400" y="1400"/>
                </a:lnTo>
                <a:close/>
              </a:path>
              <a:path fill="darken" w="23042" h="21600">
                <a:moveTo>
                  <a:pt x="23042" y="0"/>
                </a:moveTo>
                <a:lnTo>
                  <a:pt x="23042" y="21600"/>
                </a:lnTo>
                <a:lnTo>
                  <a:pt x="21642" y="20200"/>
                </a:lnTo>
                <a:lnTo>
                  <a:pt x="21642" y="1400"/>
                </a:lnTo>
                <a:close/>
              </a:path>
              <a:path fill="darkenLess" w="23042" h="21600">
                <a:moveTo>
                  <a:pt x="23042" y="21600"/>
                </a:moveTo>
                <a:lnTo>
                  <a:pt x="0" y="21600"/>
                </a:lnTo>
                <a:lnTo>
                  <a:pt x="1400" y="20200"/>
                </a:lnTo>
                <a:lnTo>
                  <a:pt x="21642" y="20200"/>
                </a:lnTo>
                <a:close/>
              </a:path>
              <a:path fill="lighten" w="23042" h="21600">
                <a:moveTo>
                  <a:pt x="0" y="21600"/>
                </a:moveTo>
                <a:lnTo>
                  <a:pt x="0" y="0"/>
                </a:lnTo>
                <a:lnTo>
                  <a:pt x="1400" y="1400"/>
                </a:lnTo>
                <a:lnTo>
                  <a:pt x="1400" y="20200"/>
                </a:lnTo>
                <a:close/>
              </a:path>
              <a:path fill="darken" w="23042" h="21600">
                <a:moveTo>
                  <a:pt x="11521" y="3837"/>
                </a:moveTo>
                <a:lnTo>
                  <a:pt x="14097" y="6448"/>
                </a:lnTo>
                <a:lnTo>
                  <a:pt x="14097" y="4707"/>
                </a:lnTo>
                <a:lnTo>
                  <a:pt x="15873" y="4707"/>
                </a:lnTo>
                <a:lnTo>
                  <a:pt x="15873" y="8224"/>
                </a:lnTo>
                <a:lnTo>
                  <a:pt x="18484" y="10800"/>
                </a:lnTo>
                <a:lnTo>
                  <a:pt x="16830" y="10800"/>
                </a:lnTo>
                <a:lnTo>
                  <a:pt x="16830" y="17989"/>
                </a:lnTo>
                <a:lnTo>
                  <a:pt x="6212" y="17989"/>
                </a:lnTo>
                <a:lnTo>
                  <a:pt x="6212" y="10800"/>
                </a:lnTo>
                <a:lnTo>
                  <a:pt x="4558" y="10800"/>
                </a:lnTo>
                <a:close/>
              </a:path>
              <a:path fill="darkenLess" w="23042" h="21600">
                <a:moveTo>
                  <a:pt x="14097" y="6448"/>
                </a:moveTo>
                <a:lnTo>
                  <a:pt x="14097" y="4707"/>
                </a:lnTo>
                <a:lnTo>
                  <a:pt x="15873" y="4707"/>
                </a:lnTo>
                <a:lnTo>
                  <a:pt x="15873" y="8224"/>
                </a:lnTo>
                <a:close/>
              </a:path>
              <a:path fill="darkenLess" w="23042" h="21600">
                <a:moveTo>
                  <a:pt x="10598" y="14299"/>
                </a:moveTo>
                <a:lnTo>
                  <a:pt x="12443" y="14299"/>
                </a:lnTo>
                <a:lnTo>
                  <a:pt x="12443" y="17989"/>
                </a:lnTo>
                <a:lnTo>
                  <a:pt x="16830" y="17989"/>
                </a:lnTo>
                <a:lnTo>
                  <a:pt x="16830" y="10800"/>
                </a:lnTo>
                <a:lnTo>
                  <a:pt x="6212" y="10800"/>
                </a:lnTo>
                <a:lnTo>
                  <a:pt x="6212" y="17989"/>
                </a:lnTo>
                <a:lnTo>
                  <a:pt x="10598"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EXAMPLES 3</a:t>
            </a:r>
            <a:endParaRPr b="0" lang="en-US" sz="4400" spc="-1" strike="noStrike">
              <a:solidFill>
                <a:srgbClr val="e5ffff"/>
              </a:solidFill>
              <a:latin typeface="Arial"/>
            </a:endParaRPr>
          </a:p>
        </p:txBody>
      </p:sp>
      <p:sp>
        <p:nvSpPr>
          <p:cNvPr id="12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onsidered the rising action in Lamb to the Slaughter? What is the falling a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sing action would be Mary killing her husband with the lamb bone.</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lling action is the officers eating the evidence.</a:t>
            </a:r>
            <a:endParaRPr b="0" lang="en-US" sz="3200" spc="-1" strike="noStrike">
              <a:solidFill>
                <a:srgbClr val="ffffff"/>
              </a:solidFill>
              <a:latin typeface="Arial"/>
            </a:endParaRPr>
          </a:p>
        </p:txBody>
      </p:sp>
      <p:sp>
        <p:nvSpPr>
          <p:cNvPr id="130" name="">
            <a:hlinkClick r:id="" action="ppaction://hlinkshowjump?jump=firstslide"/>
          </p:cNvPr>
          <p:cNvSpPr/>
          <p:nvPr/>
        </p:nvSpPr>
        <p:spPr>
          <a:xfrm>
            <a:off x="3809880" y="5029200"/>
            <a:ext cx="1067040" cy="990720"/>
          </a:xfrm>
          <a:custGeom>
            <a:avLst/>
            <a:gdLst>
              <a:gd name="textAreaLeft" fmla="*/ 64080 w 1067040"/>
              <a:gd name="textAreaRight" fmla="*/ 1002960 w 1067040"/>
              <a:gd name="textAreaTop" fmla="*/ 64080 h 990720"/>
              <a:gd name="textAreaBottom" fmla="*/ 926640 h 990720"/>
            </a:gdLst>
            <a:ahLst/>
            <a:rect l="textAreaLeft" t="textAreaTop" r="textAreaRight" b="textAreaBottom"/>
            <a:pathLst>
              <a:path w="23263" h="21600">
                <a:moveTo>
                  <a:pt x="0" y="0"/>
                </a:moveTo>
                <a:lnTo>
                  <a:pt x="23263" y="0"/>
                </a:lnTo>
                <a:lnTo>
                  <a:pt x="23263" y="21600"/>
                </a:lnTo>
                <a:lnTo>
                  <a:pt x="0" y="21600"/>
                </a:lnTo>
                <a:close/>
              </a:path>
              <a:path fill="lightenLess" w="23263" h="21600">
                <a:moveTo>
                  <a:pt x="0" y="0"/>
                </a:moveTo>
                <a:lnTo>
                  <a:pt x="23263" y="0"/>
                </a:lnTo>
                <a:lnTo>
                  <a:pt x="21863" y="1400"/>
                </a:lnTo>
                <a:lnTo>
                  <a:pt x="1400" y="1400"/>
                </a:lnTo>
                <a:close/>
              </a:path>
              <a:path fill="darken" w="23263" h="21600">
                <a:moveTo>
                  <a:pt x="23263" y="0"/>
                </a:moveTo>
                <a:lnTo>
                  <a:pt x="23263" y="21600"/>
                </a:lnTo>
                <a:lnTo>
                  <a:pt x="21863" y="20200"/>
                </a:lnTo>
                <a:lnTo>
                  <a:pt x="21863" y="1400"/>
                </a:lnTo>
                <a:close/>
              </a:path>
              <a:path fill="darkenLess" w="23263" h="21600">
                <a:moveTo>
                  <a:pt x="23263" y="21600"/>
                </a:moveTo>
                <a:lnTo>
                  <a:pt x="0" y="21600"/>
                </a:lnTo>
                <a:lnTo>
                  <a:pt x="1400" y="20200"/>
                </a:lnTo>
                <a:lnTo>
                  <a:pt x="21863" y="20200"/>
                </a:lnTo>
                <a:close/>
              </a:path>
              <a:path fill="lighten" w="23263" h="21600">
                <a:moveTo>
                  <a:pt x="0" y="21600"/>
                </a:moveTo>
                <a:lnTo>
                  <a:pt x="0" y="0"/>
                </a:lnTo>
                <a:lnTo>
                  <a:pt x="1400" y="1400"/>
                </a:lnTo>
                <a:lnTo>
                  <a:pt x="1400" y="20200"/>
                </a:lnTo>
                <a:close/>
              </a:path>
              <a:path fill="darken" w="23263" h="21600">
                <a:moveTo>
                  <a:pt x="11632" y="3837"/>
                </a:moveTo>
                <a:lnTo>
                  <a:pt x="14208" y="6448"/>
                </a:lnTo>
                <a:lnTo>
                  <a:pt x="14208" y="4707"/>
                </a:lnTo>
                <a:lnTo>
                  <a:pt x="15984" y="4707"/>
                </a:lnTo>
                <a:lnTo>
                  <a:pt x="15984" y="8224"/>
                </a:lnTo>
                <a:lnTo>
                  <a:pt x="18595" y="10800"/>
                </a:lnTo>
                <a:lnTo>
                  <a:pt x="16941" y="10800"/>
                </a:lnTo>
                <a:lnTo>
                  <a:pt x="16941" y="17989"/>
                </a:lnTo>
                <a:lnTo>
                  <a:pt x="6322" y="17989"/>
                </a:lnTo>
                <a:lnTo>
                  <a:pt x="6322" y="10800"/>
                </a:lnTo>
                <a:lnTo>
                  <a:pt x="4669" y="10800"/>
                </a:lnTo>
                <a:close/>
              </a:path>
              <a:path fill="darkenLess" w="23263" h="21600">
                <a:moveTo>
                  <a:pt x="14208" y="6448"/>
                </a:moveTo>
                <a:lnTo>
                  <a:pt x="14208" y="4707"/>
                </a:lnTo>
                <a:lnTo>
                  <a:pt x="15984" y="4707"/>
                </a:lnTo>
                <a:lnTo>
                  <a:pt x="15984" y="8224"/>
                </a:lnTo>
                <a:close/>
              </a:path>
              <a:path fill="darkenLess" w="23263" h="21600">
                <a:moveTo>
                  <a:pt x="10709" y="14299"/>
                </a:moveTo>
                <a:lnTo>
                  <a:pt x="12554" y="14299"/>
                </a:lnTo>
                <a:lnTo>
                  <a:pt x="12554" y="17989"/>
                </a:lnTo>
                <a:lnTo>
                  <a:pt x="16941" y="17989"/>
                </a:lnTo>
                <a:lnTo>
                  <a:pt x="16941" y="10800"/>
                </a:lnTo>
                <a:lnTo>
                  <a:pt x="6322" y="10800"/>
                </a:lnTo>
                <a:lnTo>
                  <a:pt x="6322" y="17989"/>
                </a:lnTo>
                <a:lnTo>
                  <a:pt x="10709"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1</a:t>
            </a:r>
            <a:endParaRPr b="0" lang="en-US" sz="4400" spc="-1" strike="noStrike">
              <a:solidFill>
                <a:srgbClr val="e5ffff"/>
              </a:solidFill>
              <a:latin typeface="Arial"/>
            </a:endParaRPr>
          </a:p>
        </p:txBody>
      </p:sp>
      <p:sp>
        <p:nvSpPr>
          <p:cNvPr id="86"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lay Julius Caesar, the play is told in 3rd person narration.  This means that the narrator knows everything.  This term is called omniscient.</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the narrator in To Kill a Mockingbird, not with an omniscient point of view?</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Arial"/>
                <a:hlinkClick r:id="rId2" action="ppaction://hlinksldjump"/>
              </a:rPr>
              <a:t>ANSWER</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EXAMPLE 1</a:t>
            </a:r>
            <a:endParaRPr b="0" lang="en-US" sz="4400" spc="-1" strike="noStrike">
              <a:solidFill>
                <a:srgbClr val="e5ffff"/>
              </a:solidFill>
              <a:latin typeface="Arial"/>
            </a:endParaRPr>
          </a:p>
        </p:txBody>
      </p:sp>
      <p:sp>
        <p:nvSpPr>
          <p:cNvPr id="13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akes setting so important to the story Of Mice and m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3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setting is at the pond with the bush which is an important symbol displayed throughout the book.</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setting, the new farm, was important because it is where their new job takes place and they get into many conflicts.</a:t>
            </a:r>
            <a:endParaRPr b="0" lang="en-US" sz="3200" spc="-1" strike="noStrike">
              <a:solidFill>
                <a:srgbClr val="ffffff"/>
              </a:solidFill>
              <a:latin typeface="Arial"/>
            </a:endParaRPr>
          </a:p>
        </p:txBody>
      </p:sp>
      <p:sp>
        <p:nvSpPr>
          <p:cNvPr id="135" name="">
            <a:hlinkClick r:id="" action="ppaction://hlinkshowjump?jump=firstslide"/>
          </p:cNvPr>
          <p:cNvSpPr/>
          <p:nvPr/>
        </p:nvSpPr>
        <p:spPr>
          <a:xfrm>
            <a:off x="3886200" y="51814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FIGURATIVE LANGUAGE 3</a:t>
            </a:r>
            <a:endParaRPr b="0" lang="en-US" sz="4400" spc="-1" strike="noStrike">
              <a:solidFill>
                <a:srgbClr val="e5ffff"/>
              </a:solidFill>
              <a:latin typeface="Arial"/>
            </a:endParaRPr>
          </a:p>
        </p:txBody>
      </p:sp>
      <p:sp>
        <p:nvSpPr>
          <p:cNvPr id="13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purpose of a simi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3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imile is used to compare two objects using like or as.</a:t>
            </a:r>
            <a:endParaRPr b="0" lang="en-US" sz="3200" spc="-1" strike="noStrike">
              <a:solidFill>
                <a:srgbClr val="ffffff"/>
              </a:solidFill>
              <a:latin typeface="Arial"/>
            </a:endParaRPr>
          </a:p>
        </p:txBody>
      </p:sp>
      <p:sp>
        <p:nvSpPr>
          <p:cNvPr id="140" name="">
            <a:hlinkClick r:id="" action="ppaction://hlinkshowjump?jump=firstslide"/>
          </p:cNvPr>
          <p:cNvSpPr/>
          <p:nvPr/>
        </p:nvSpPr>
        <p:spPr>
          <a:xfrm>
            <a:off x="3505320" y="4724280"/>
            <a:ext cx="1143000" cy="1143000"/>
          </a:xfrm>
          <a:custGeom>
            <a:avLst/>
            <a:gdLst>
              <a:gd name="textAreaLeft" fmla="*/ 73800 w 1143000"/>
              <a:gd name="textAreaRight" fmla="*/ 1069200 w 1143000"/>
              <a:gd name="textAreaTop" fmla="*/ 73800 h 1143000"/>
              <a:gd name="textAreaBottom" fmla="*/ 1069200 h 1143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FIGURATIVE LANGUAGE 4</a:t>
            </a:r>
            <a:endParaRPr b="0" lang="en-US" sz="4400" spc="-1" strike="noStrike">
              <a:solidFill>
                <a:srgbClr val="e5ffff"/>
              </a:solidFill>
              <a:latin typeface="Arial"/>
            </a:endParaRPr>
          </a:p>
        </p:txBody>
      </p:sp>
      <p:sp>
        <p:nvSpPr>
          <p:cNvPr id="14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a soliloquy important to a sto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4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loquy is used to show a characters true emotions.</a:t>
            </a:r>
            <a:endParaRPr b="0" lang="en-US" sz="3200" spc="-1" strike="noStrike">
              <a:solidFill>
                <a:srgbClr val="ffffff"/>
              </a:solidFill>
              <a:latin typeface="Arial"/>
            </a:endParaRPr>
          </a:p>
        </p:txBody>
      </p:sp>
      <p:sp>
        <p:nvSpPr>
          <p:cNvPr id="145" name="">
            <a:hlinkClick r:id="" action="ppaction://hlinkshowjump?jump=firstslide"/>
          </p:cNvPr>
          <p:cNvSpPr/>
          <p:nvPr/>
        </p:nvSpPr>
        <p:spPr>
          <a:xfrm>
            <a:off x="3886200" y="4572000"/>
            <a:ext cx="990720" cy="1066680"/>
          </a:xfrm>
          <a:custGeom>
            <a:avLst/>
            <a:gdLst>
              <a:gd name="textAreaLeft" fmla="*/ 64080 w 990720"/>
              <a:gd name="textAreaRight" fmla="*/ 926640 w 990720"/>
              <a:gd name="textAreaTop" fmla="*/ 64080 h 1066680"/>
              <a:gd name="textAreaBottom" fmla="*/ 1002600 h 1066680"/>
            </a:gdLst>
            <a:ahLst/>
            <a:rect l="textAreaLeft" t="textAreaTop" r="textAreaRight" b="textAreaBottom"/>
            <a:pathLst>
              <a:path w="21600" h="23256">
                <a:moveTo>
                  <a:pt x="0" y="0"/>
                </a:moveTo>
                <a:lnTo>
                  <a:pt x="21600" y="0"/>
                </a:lnTo>
                <a:lnTo>
                  <a:pt x="21600" y="23256"/>
                </a:lnTo>
                <a:lnTo>
                  <a:pt x="0" y="23256"/>
                </a:lnTo>
                <a:close/>
              </a:path>
              <a:path fill="lightenLess" w="21600" h="23256">
                <a:moveTo>
                  <a:pt x="0" y="0"/>
                </a:moveTo>
                <a:lnTo>
                  <a:pt x="21600" y="0"/>
                </a:lnTo>
                <a:lnTo>
                  <a:pt x="20200" y="1400"/>
                </a:lnTo>
                <a:lnTo>
                  <a:pt x="1400" y="1400"/>
                </a:lnTo>
                <a:close/>
              </a:path>
              <a:path fill="darken" w="21600" h="23256">
                <a:moveTo>
                  <a:pt x="21600" y="0"/>
                </a:moveTo>
                <a:lnTo>
                  <a:pt x="21600" y="23256"/>
                </a:lnTo>
                <a:lnTo>
                  <a:pt x="20200" y="21856"/>
                </a:lnTo>
                <a:lnTo>
                  <a:pt x="20200" y="1400"/>
                </a:lnTo>
                <a:close/>
              </a:path>
              <a:path fill="darkenLess" w="21600" h="23256">
                <a:moveTo>
                  <a:pt x="21600" y="23256"/>
                </a:moveTo>
                <a:lnTo>
                  <a:pt x="0" y="23256"/>
                </a:lnTo>
                <a:lnTo>
                  <a:pt x="1400" y="21856"/>
                </a:lnTo>
                <a:lnTo>
                  <a:pt x="20200" y="21856"/>
                </a:lnTo>
                <a:close/>
              </a:path>
              <a:path fill="lighten" w="21600" h="23256">
                <a:moveTo>
                  <a:pt x="0" y="23256"/>
                </a:moveTo>
                <a:lnTo>
                  <a:pt x="0" y="0"/>
                </a:lnTo>
                <a:lnTo>
                  <a:pt x="1400" y="1400"/>
                </a:lnTo>
                <a:lnTo>
                  <a:pt x="1400" y="21856"/>
                </a:lnTo>
                <a:close/>
              </a:path>
              <a:path fill="darken" w="21600" h="23256">
                <a:moveTo>
                  <a:pt x="10800" y="4665"/>
                </a:moveTo>
                <a:lnTo>
                  <a:pt x="13376" y="7276"/>
                </a:lnTo>
                <a:lnTo>
                  <a:pt x="13376" y="5535"/>
                </a:lnTo>
                <a:lnTo>
                  <a:pt x="15152" y="5535"/>
                </a:lnTo>
                <a:lnTo>
                  <a:pt x="15152" y="9051"/>
                </a:lnTo>
                <a:lnTo>
                  <a:pt x="17763" y="11628"/>
                </a:lnTo>
                <a:lnTo>
                  <a:pt x="16109" y="11628"/>
                </a:lnTo>
                <a:lnTo>
                  <a:pt x="16109" y="18817"/>
                </a:lnTo>
                <a:lnTo>
                  <a:pt x="5491" y="18817"/>
                </a:lnTo>
                <a:lnTo>
                  <a:pt x="5491" y="11628"/>
                </a:lnTo>
                <a:lnTo>
                  <a:pt x="3837" y="11628"/>
                </a:lnTo>
                <a:close/>
              </a:path>
              <a:path fill="darkenLess" w="21600" h="23256">
                <a:moveTo>
                  <a:pt x="13376" y="7276"/>
                </a:moveTo>
                <a:lnTo>
                  <a:pt x="13376" y="5535"/>
                </a:lnTo>
                <a:lnTo>
                  <a:pt x="15152" y="5535"/>
                </a:lnTo>
                <a:lnTo>
                  <a:pt x="15152" y="9051"/>
                </a:lnTo>
                <a:close/>
              </a:path>
              <a:path fill="darkenLess" w="21600" h="23256">
                <a:moveTo>
                  <a:pt x="9877" y="15127"/>
                </a:moveTo>
                <a:lnTo>
                  <a:pt x="11723" y="15127"/>
                </a:lnTo>
                <a:lnTo>
                  <a:pt x="11723" y="18817"/>
                </a:lnTo>
                <a:lnTo>
                  <a:pt x="16109" y="18817"/>
                </a:lnTo>
                <a:lnTo>
                  <a:pt x="16109" y="11628"/>
                </a:lnTo>
                <a:lnTo>
                  <a:pt x="5491" y="11628"/>
                </a:lnTo>
                <a:lnTo>
                  <a:pt x="5491" y="18817"/>
                </a:lnTo>
                <a:lnTo>
                  <a:pt x="9877" y="18817"/>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HARACTERS 3</a:t>
            </a:r>
            <a:endParaRPr b="0" lang="en-US" sz="4400" spc="-1" strike="noStrike">
              <a:solidFill>
                <a:srgbClr val="e5ffff"/>
              </a:solidFill>
              <a:latin typeface="Arial"/>
            </a:endParaRPr>
          </a:p>
        </p:txBody>
      </p:sp>
      <p:sp>
        <p:nvSpPr>
          <p:cNvPr id="14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e speaker in To Kill a Mockingbir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4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per Lee is the speaker because she tells the story (narrator).</a:t>
            </a:r>
            <a:endParaRPr b="0" lang="en-US" sz="3200" spc="-1" strike="noStrike">
              <a:solidFill>
                <a:srgbClr val="ffffff"/>
              </a:solidFill>
              <a:latin typeface="Arial"/>
            </a:endParaRPr>
          </a:p>
        </p:txBody>
      </p:sp>
      <p:sp>
        <p:nvSpPr>
          <p:cNvPr id="150" name="">
            <a:hlinkClick r:id="" action="ppaction://hlinkshowjump?jump=firstslide"/>
          </p:cNvPr>
          <p:cNvSpPr/>
          <p:nvPr/>
        </p:nvSpPr>
        <p:spPr>
          <a:xfrm>
            <a:off x="40384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 fill="darken" w="28802" h="21600">
                <a:moveTo>
                  <a:pt x="14401" y="3837"/>
                </a:moveTo>
                <a:lnTo>
                  <a:pt x="16977" y="6448"/>
                </a:lnTo>
                <a:lnTo>
                  <a:pt x="16977" y="4707"/>
                </a:lnTo>
                <a:lnTo>
                  <a:pt x="18753" y="4707"/>
                </a:lnTo>
                <a:lnTo>
                  <a:pt x="18753" y="8224"/>
                </a:lnTo>
                <a:lnTo>
                  <a:pt x="21364" y="10800"/>
                </a:lnTo>
                <a:lnTo>
                  <a:pt x="19710" y="10800"/>
                </a:lnTo>
                <a:lnTo>
                  <a:pt x="19710" y="17989"/>
                </a:lnTo>
                <a:lnTo>
                  <a:pt x="9092" y="17989"/>
                </a:lnTo>
                <a:lnTo>
                  <a:pt x="9092" y="10800"/>
                </a:lnTo>
                <a:lnTo>
                  <a:pt x="7438" y="10800"/>
                </a:lnTo>
                <a:close/>
              </a:path>
              <a:path fill="darkenLess" w="28802" h="21600">
                <a:moveTo>
                  <a:pt x="16977" y="6448"/>
                </a:moveTo>
                <a:lnTo>
                  <a:pt x="16977" y="4707"/>
                </a:lnTo>
                <a:lnTo>
                  <a:pt x="18753" y="4707"/>
                </a:lnTo>
                <a:lnTo>
                  <a:pt x="18753" y="8224"/>
                </a:lnTo>
                <a:close/>
              </a:path>
              <a:path fill="darkenLess" w="28802" h="21600">
                <a:moveTo>
                  <a:pt x="13479" y="14299"/>
                </a:moveTo>
                <a:lnTo>
                  <a:pt x="15324" y="14299"/>
                </a:lnTo>
                <a:lnTo>
                  <a:pt x="15324" y="17989"/>
                </a:lnTo>
                <a:lnTo>
                  <a:pt x="19710" y="17989"/>
                </a:lnTo>
                <a:lnTo>
                  <a:pt x="19710" y="10800"/>
                </a:lnTo>
                <a:lnTo>
                  <a:pt x="9092" y="10800"/>
                </a:lnTo>
                <a:lnTo>
                  <a:pt x="9092" y="17989"/>
                </a:lnTo>
                <a:lnTo>
                  <a:pt x="13479"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4</a:t>
            </a:r>
            <a:endParaRPr b="0" lang="en-US" sz="4400" spc="-1" strike="noStrike">
              <a:solidFill>
                <a:srgbClr val="e5ffff"/>
              </a:solidFill>
              <a:latin typeface="Arial"/>
            </a:endParaRPr>
          </a:p>
        </p:txBody>
      </p:sp>
      <p:sp>
        <p:nvSpPr>
          <p:cNvPr id="15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tage directions?</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story” were they u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5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ge directions are instructions in the text of a play indicating the movement, position, or tone of an actor, or the sound effects and lighting.</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ge directions were used very frequently in Julius Caesar.</a:t>
            </a:r>
            <a:endParaRPr b="0" lang="en-US" sz="3200" spc="-1" strike="noStrike">
              <a:solidFill>
                <a:srgbClr val="ffffff"/>
              </a:solidFill>
              <a:latin typeface="Arial"/>
            </a:endParaRPr>
          </a:p>
        </p:txBody>
      </p:sp>
      <p:sp>
        <p:nvSpPr>
          <p:cNvPr id="155" name="">
            <a:hlinkClick r:id="" action="ppaction://hlinkshowjump?jump=firstslide"/>
          </p:cNvPr>
          <p:cNvSpPr/>
          <p:nvPr/>
        </p:nvSpPr>
        <p:spPr>
          <a:xfrm>
            <a:off x="3657600" y="5410080"/>
            <a:ext cx="1143000" cy="990720"/>
          </a:xfrm>
          <a:custGeom>
            <a:avLst/>
            <a:gdLst>
              <a:gd name="textAreaLeft" fmla="*/ 64080 w 1143000"/>
              <a:gd name="textAreaRight" fmla="*/ 1078920 w 1143000"/>
              <a:gd name="textAreaTop" fmla="*/ 64080 h 990720"/>
              <a:gd name="textAreaBottom" fmla="*/ 92664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3519" y="1400"/>
                </a:lnTo>
                <a:lnTo>
                  <a:pt x="1400" y="1400"/>
                </a:lnTo>
                <a:close/>
              </a:path>
              <a:path fill="darken" w="24919" h="21600">
                <a:moveTo>
                  <a:pt x="24919" y="0"/>
                </a:moveTo>
                <a:lnTo>
                  <a:pt x="24919" y="21600"/>
                </a:lnTo>
                <a:lnTo>
                  <a:pt x="23519" y="20200"/>
                </a:lnTo>
                <a:lnTo>
                  <a:pt x="23519" y="1400"/>
                </a:lnTo>
                <a:close/>
              </a:path>
              <a:path fill="darkenLess" w="24919" h="21600">
                <a:moveTo>
                  <a:pt x="24919" y="21600"/>
                </a:moveTo>
                <a:lnTo>
                  <a:pt x="0" y="21600"/>
                </a:lnTo>
                <a:lnTo>
                  <a:pt x="1400" y="20200"/>
                </a:lnTo>
                <a:lnTo>
                  <a:pt x="23519" y="20200"/>
                </a:lnTo>
                <a:close/>
              </a:path>
              <a:path fill="lighten" w="24919" h="21600">
                <a:moveTo>
                  <a:pt x="0" y="21600"/>
                </a:moveTo>
                <a:lnTo>
                  <a:pt x="0" y="0"/>
                </a:lnTo>
                <a:lnTo>
                  <a:pt x="1400" y="1400"/>
                </a:lnTo>
                <a:lnTo>
                  <a:pt x="1400" y="20200"/>
                </a:lnTo>
                <a:close/>
              </a:path>
              <a:path fill="darken" w="24919" h="21600">
                <a:moveTo>
                  <a:pt x="12459" y="3837"/>
                </a:moveTo>
                <a:lnTo>
                  <a:pt x="15036" y="6448"/>
                </a:lnTo>
                <a:lnTo>
                  <a:pt x="15036" y="4707"/>
                </a:lnTo>
                <a:lnTo>
                  <a:pt x="16811" y="4707"/>
                </a:lnTo>
                <a:lnTo>
                  <a:pt x="16811" y="8224"/>
                </a:lnTo>
                <a:lnTo>
                  <a:pt x="19422" y="10800"/>
                </a:lnTo>
                <a:lnTo>
                  <a:pt x="17769" y="10800"/>
                </a:lnTo>
                <a:lnTo>
                  <a:pt x="17769" y="17989"/>
                </a:lnTo>
                <a:lnTo>
                  <a:pt x="7150" y="17989"/>
                </a:lnTo>
                <a:lnTo>
                  <a:pt x="7150" y="10800"/>
                </a:lnTo>
                <a:lnTo>
                  <a:pt x="5496" y="10800"/>
                </a:lnTo>
                <a:close/>
              </a:path>
              <a:path fill="darkenLess" w="24919" h="21600">
                <a:moveTo>
                  <a:pt x="15036" y="6448"/>
                </a:moveTo>
                <a:lnTo>
                  <a:pt x="15036" y="4707"/>
                </a:lnTo>
                <a:lnTo>
                  <a:pt x="16811" y="4707"/>
                </a:lnTo>
                <a:lnTo>
                  <a:pt x="16811" y="8224"/>
                </a:lnTo>
                <a:close/>
              </a:path>
              <a:path fill="darkenLess" w="24919" h="21600">
                <a:moveTo>
                  <a:pt x="11537" y="14299"/>
                </a:moveTo>
                <a:lnTo>
                  <a:pt x="13382" y="14299"/>
                </a:lnTo>
                <a:lnTo>
                  <a:pt x="13382" y="17989"/>
                </a:lnTo>
                <a:lnTo>
                  <a:pt x="17769" y="17989"/>
                </a:lnTo>
                <a:lnTo>
                  <a:pt x="17769" y="10800"/>
                </a:lnTo>
                <a:lnTo>
                  <a:pt x="7150" y="10800"/>
                </a:lnTo>
                <a:lnTo>
                  <a:pt x="7150" y="17989"/>
                </a:lnTo>
                <a:lnTo>
                  <a:pt x="1153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88"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o Kill a Mockingbird, Scout explains parts of her childhood.  She expresses her feelings and what she THINKS the other characters are feeling.  This is not omniscient because she does not know what everybody's feelings and opinions. </a:t>
            </a:r>
            <a:endParaRPr b="0" lang="en-US" sz="3200" spc="-1" strike="noStrike">
              <a:solidFill>
                <a:srgbClr val="ffffff"/>
              </a:solidFill>
              <a:latin typeface="Arial"/>
            </a:endParaRPr>
          </a:p>
        </p:txBody>
      </p:sp>
      <p:sp>
        <p:nvSpPr>
          <p:cNvPr id="89" name="">
            <a:hlinkClick r:id="" action="ppaction://hlinkshowjump?jump=firstslide"/>
          </p:cNvPr>
          <p:cNvSpPr/>
          <p:nvPr/>
        </p:nvSpPr>
        <p:spPr>
          <a:xfrm>
            <a:off x="1752480" y="5486400"/>
            <a:ext cx="1143000" cy="914400"/>
          </a:xfrm>
          <a:custGeom>
            <a:avLst/>
            <a:gdLst>
              <a:gd name="textAreaLeft" fmla="*/ 59040 w 1143000"/>
              <a:gd name="textAreaRight" fmla="*/ 1083960 w 1143000"/>
              <a:gd name="textAreaTop" fmla="*/ 59040 h 914400"/>
              <a:gd name="textAreaBottom" fmla="*/ 85536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598" y="1400"/>
                </a:lnTo>
                <a:lnTo>
                  <a:pt x="1400" y="1400"/>
                </a:lnTo>
                <a:close/>
              </a:path>
              <a:path fill="darken" w="26998" h="21600">
                <a:moveTo>
                  <a:pt x="26998" y="0"/>
                </a:moveTo>
                <a:lnTo>
                  <a:pt x="26998" y="21600"/>
                </a:lnTo>
                <a:lnTo>
                  <a:pt x="25598" y="20200"/>
                </a:lnTo>
                <a:lnTo>
                  <a:pt x="25598" y="1400"/>
                </a:lnTo>
                <a:close/>
              </a:path>
              <a:path fill="darkenLess" w="26998" h="21600">
                <a:moveTo>
                  <a:pt x="26998" y="21600"/>
                </a:moveTo>
                <a:lnTo>
                  <a:pt x="0" y="21600"/>
                </a:lnTo>
                <a:lnTo>
                  <a:pt x="1400" y="20200"/>
                </a:lnTo>
                <a:lnTo>
                  <a:pt x="25598" y="20200"/>
                </a:lnTo>
                <a:close/>
              </a:path>
              <a:path fill="lighten" w="26998" h="21600">
                <a:moveTo>
                  <a:pt x="0" y="21600"/>
                </a:moveTo>
                <a:lnTo>
                  <a:pt x="0" y="0"/>
                </a:lnTo>
                <a:lnTo>
                  <a:pt x="1400" y="1400"/>
                </a:lnTo>
                <a:lnTo>
                  <a:pt x="1400" y="20200"/>
                </a:lnTo>
                <a:close/>
              </a:path>
              <a:path fill="darken" w="26998" h="21600">
                <a:moveTo>
                  <a:pt x="13499" y="3837"/>
                </a:moveTo>
                <a:lnTo>
                  <a:pt x="16075" y="6448"/>
                </a:lnTo>
                <a:lnTo>
                  <a:pt x="16075" y="4707"/>
                </a:lnTo>
                <a:lnTo>
                  <a:pt x="17851" y="4707"/>
                </a:lnTo>
                <a:lnTo>
                  <a:pt x="17851" y="8224"/>
                </a:lnTo>
                <a:lnTo>
                  <a:pt x="20462" y="10800"/>
                </a:lnTo>
                <a:lnTo>
                  <a:pt x="18808" y="10800"/>
                </a:lnTo>
                <a:lnTo>
                  <a:pt x="18808" y="17989"/>
                </a:lnTo>
                <a:lnTo>
                  <a:pt x="8190" y="17989"/>
                </a:lnTo>
                <a:lnTo>
                  <a:pt x="8190" y="10800"/>
                </a:lnTo>
                <a:lnTo>
                  <a:pt x="6536" y="10800"/>
                </a:lnTo>
                <a:close/>
              </a:path>
              <a:path fill="darkenLess" w="26998" h="21600">
                <a:moveTo>
                  <a:pt x="16075" y="6448"/>
                </a:moveTo>
                <a:lnTo>
                  <a:pt x="16075" y="4707"/>
                </a:lnTo>
                <a:lnTo>
                  <a:pt x="17851" y="4707"/>
                </a:lnTo>
                <a:lnTo>
                  <a:pt x="17851" y="8224"/>
                </a:lnTo>
                <a:close/>
              </a:path>
              <a:path fill="darkenLess" w="26998" h="21600">
                <a:moveTo>
                  <a:pt x="12576" y="14299"/>
                </a:moveTo>
                <a:lnTo>
                  <a:pt x="14422" y="14299"/>
                </a:lnTo>
                <a:lnTo>
                  <a:pt x="14422" y="17989"/>
                </a:lnTo>
                <a:lnTo>
                  <a:pt x="18808" y="17989"/>
                </a:lnTo>
                <a:lnTo>
                  <a:pt x="18808" y="10800"/>
                </a:lnTo>
                <a:lnTo>
                  <a:pt x="8190" y="10800"/>
                </a:lnTo>
                <a:lnTo>
                  <a:pt x="8190" y="17989"/>
                </a:lnTo>
                <a:lnTo>
                  <a:pt x="12576"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EXAMPLES 4</a:t>
            </a:r>
            <a:endParaRPr b="0" lang="en-US" sz="4400" spc="-1" strike="noStrike">
              <a:solidFill>
                <a:srgbClr val="e5ffff"/>
              </a:solidFill>
              <a:latin typeface="Arial"/>
            </a:endParaRPr>
          </a:p>
        </p:txBody>
      </p:sp>
      <p:sp>
        <p:nvSpPr>
          <p:cNvPr id="15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suspense add to a story?</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cene was the most suspense in Of Mice and M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5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pense adds a thrill and excitement  to a story.</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f Mice and Men, the end of the book, when George shoots Lenny, was the most suspenseful.</a:t>
            </a:r>
            <a:endParaRPr b="0" lang="en-US" sz="3200" spc="-1" strike="noStrike">
              <a:solidFill>
                <a:srgbClr val="ffffff"/>
              </a:solidFill>
              <a:latin typeface="Arial"/>
            </a:endParaRPr>
          </a:p>
        </p:txBody>
      </p:sp>
      <p:sp>
        <p:nvSpPr>
          <p:cNvPr id="160" name="">
            <a:hlinkClick r:id="" action="ppaction://hlinkshowjump?jump=firstslide"/>
          </p:cNvPr>
          <p:cNvSpPr/>
          <p:nvPr/>
        </p:nvSpPr>
        <p:spPr>
          <a:xfrm>
            <a:off x="3581280" y="5181480"/>
            <a:ext cx="1067040" cy="1143000"/>
          </a:xfrm>
          <a:custGeom>
            <a:avLst/>
            <a:gdLst>
              <a:gd name="textAreaLeft" fmla="*/ 69120 w 1067040"/>
              <a:gd name="textAreaRight" fmla="*/ 997920 w 1067040"/>
              <a:gd name="textAreaTop" fmla="*/ 69120 h 1143000"/>
              <a:gd name="textAreaBottom" fmla="*/ 1073880 h 1143000"/>
            </a:gdLst>
            <a:ahLst/>
            <a:rect l="textAreaLeft" t="textAreaTop" r="textAreaRight" b="textAreaBottom"/>
            <a:pathLst>
              <a:path w="21600" h="23137">
                <a:moveTo>
                  <a:pt x="0" y="0"/>
                </a:moveTo>
                <a:lnTo>
                  <a:pt x="21600" y="0"/>
                </a:lnTo>
                <a:lnTo>
                  <a:pt x="21600" y="23137"/>
                </a:lnTo>
                <a:lnTo>
                  <a:pt x="0" y="23137"/>
                </a:lnTo>
                <a:close/>
              </a:path>
              <a:path fill="lightenLess" w="21600" h="23137">
                <a:moveTo>
                  <a:pt x="0" y="0"/>
                </a:moveTo>
                <a:lnTo>
                  <a:pt x="21600" y="0"/>
                </a:lnTo>
                <a:lnTo>
                  <a:pt x="20200" y="1400"/>
                </a:lnTo>
                <a:lnTo>
                  <a:pt x="1400" y="1400"/>
                </a:lnTo>
                <a:close/>
              </a:path>
              <a:path fill="darken" w="21600" h="23137">
                <a:moveTo>
                  <a:pt x="21600" y="0"/>
                </a:moveTo>
                <a:lnTo>
                  <a:pt x="21600" y="23137"/>
                </a:lnTo>
                <a:lnTo>
                  <a:pt x="20200" y="21737"/>
                </a:lnTo>
                <a:lnTo>
                  <a:pt x="20200" y="1400"/>
                </a:lnTo>
                <a:close/>
              </a:path>
              <a:path fill="darkenLess" w="21600" h="23137">
                <a:moveTo>
                  <a:pt x="21600" y="23137"/>
                </a:moveTo>
                <a:lnTo>
                  <a:pt x="0" y="23137"/>
                </a:lnTo>
                <a:lnTo>
                  <a:pt x="1400" y="21737"/>
                </a:lnTo>
                <a:lnTo>
                  <a:pt x="20200" y="21737"/>
                </a:lnTo>
                <a:close/>
              </a:path>
              <a:path fill="lighten" w="21600" h="23137">
                <a:moveTo>
                  <a:pt x="0" y="23137"/>
                </a:moveTo>
                <a:lnTo>
                  <a:pt x="0" y="0"/>
                </a:lnTo>
                <a:lnTo>
                  <a:pt x="1400" y="1400"/>
                </a:lnTo>
                <a:lnTo>
                  <a:pt x="1400" y="21737"/>
                </a:lnTo>
                <a:close/>
              </a:path>
              <a:path fill="darken" w="21600" h="23137">
                <a:moveTo>
                  <a:pt x="10800" y="4606"/>
                </a:moveTo>
                <a:lnTo>
                  <a:pt x="13376" y="7217"/>
                </a:lnTo>
                <a:lnTo>
                  <a:pt x="13376" y="5476"/>
                </a:lnTo>
                <a:lnTo>
                  <a:pt x="15152" y="5476"/>
                </a:lnTo>
                <a:lnTo>
                  <a:pt x="15152" y="8992"/>
                </a:lnTo>
                <a:lnTo>
                  <a:pt x="17763" y="11569"/>
                </a:lnTo>
                <a:lnTo>
                  <a:pt x="16109" y="11569"/>
                </a:lnTo>
                <a:lnTo>
                  <a:pt x="16109" y="18758"/>
                </a:lnTo>
                <a:lnTo>
                  <a:pt x="5491" y="18758"/>
                </a:lnTo>
                <a:lnTo>
                  <a:pt x="5491" y="11569"/>
                </a:lnTo>
                <a:lnTo>
                  <a:pt x="3837" y="11569"/>
                </a:lnTo>
                <a:close/>
              </a:path>
              <a:path fill="darkenLess" w="21600" h="23137">
                <a:moveTo>
                  <a:pt x="13376" y="7217"/>
                </a:moveTo>
                <a:lnTo>
                  <a:pt x="13376" y="5476"/>
                </a:lnTo>
                <a:lnTo>
                  <a:pt x="15152" y="5476"/>
                </a:lnTo>
                <a:lnTo>
                  <a:pt x="15152" y="8992"/>
                </a:lnTo>
                <a:close/>
              </a:path>
              <a:path fill="darkenLess" w="21600" h="23137">
                <a:moveTo>
                  <a:pt x="9877" y="15067"/>
                </a:moveTo>
                <a:lnTo>
                  <a:pt x="11723" y="15067"/>
                </a:lnTo>
                <a:lnTo>
                  <a:pt x="11723" y="18758"/>
                </a:lnTo>
                <a:lnTo>
                  <a:pt x="16109" y="18758"/>
                </a:lnTo>
                <a:lnTo>
                  <a:pt x="16109" y="11569"/>
                </a:lnTo>
                <a:lnTo>
                  <a:pt x="5491" y="11569"/>
                </a:lnTo>
                <a:lnTo>
                  <a:pt x="5491" y="18758"/>
                </a:lnTo>
                <a:lnTo>
                  <a:pt x="9877" y="18758"/>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HARACTERS 4</a:t>
            </a:r>
            <a:endParaRPr b="0" lang="en-US" sz="4400" spc="-1" strike="noStrike">
              <a:solidFill>
                <a:srgbClr val="e5ffff"/>
              </a:solidFill>
              <a:latin typeface="Arial"/>
            </a:endParaRPr>
          </a:p>
        </p:txBody>
      </p:sp>
      <p:sp>
        <p:nvSpPr>
          <p:cNvPr id="16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as the tragic hero in Julius Caes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6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tus was the tragic hero in Julius Caesar.</a:t>
            </a:r>
            <a:endParaRPr b="0" lang="en-US" sz="3200" spc="-1" strike="noStrike">
              <a:solidFill>
                <a:srgbClr val="ffffff"/>
              </a:solidFill>
              <a:latin typeface="Arial"/>
            </a:endParaRPr>
          </a:p>
        </p:txBody>
      </p:sp>
      <p:sp>
        <p:nvSpPr>
          <p:cNvPr id="165" name="">
            <a:hlinkClick r:id="" action="ppaction://hlinkshowjump?jump=firstslide"/>
          </p:cNvPr>
          <p:cNvSpPr/>
          <p:nvPr/>
        </p:nvSpPr>
        <p:spPr>
          <a:xfrm>
            <a:off x="5562720" y="55627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11783" y="3837"/>
                </a:moveTo>
                <a:lnTo>
                  <a:pt x="14359" y="6448"/>
                </a:lnTo>
                <a:lnTo>
                  <a:pt x="14359" y="4707"/>
                </a:lnTo>
                <a:lnTo>
                  <a:pt x="16135" y="4707"/>
                </a:lnTo>
                <a:lnTo>
                  <a:pt x="16135" y="8224"/>
                </a:lnTo>
                <a:lnTo>
                  <a:pt x="18746" y="10800"/>
                </a:lnTo>
                <a:lnTo>
                  <a:pt x="17092" y="10800"/>
                </a:lnTo>
                <a:lnTo>
                  <a:pt x="17092" y="17989"/>
                </a:lnTo>
                <a:lnTo>
                  <a:pt x="6474" y="17989"/>
                </a:lnTo>
                <a:lnTo>
                  <a:pt x="6474" y="10800"/>
                </a:lnTo>
                <a:lnTo>
                  <a:pt x="4820" y="10800"/>
                </a:lnTo>
                <a:close/>
              </a:path>
              <a:path fill="darkenLess" w="23566" h="21600">
                <a:moveTo>
                  <a:pt x="14359" y="6448"/>
                </a:moveTo>
                <a:lnTo>
                  <a:pt x="14359" y="4707"/>
                </a:lnTo>
                <a:lnTo>
                  <a:pt x="16135" y="4707"/>
                </a:lnTo>
                <a:lnTo>
                  <a:pt x="16135" y="8224"/>
                </a:lnTo>
                <a:close/>
              </a:path>
              <a:path fill="darkenLess" w="23566" h="21600">
                <a:moveTo>
                  <a:pt x="10860" y="14299"/>
                </a:moveTo>
                <a:lnTo>
                  <a:pt x="12706" y="14299"/>
                </a:lnTo>
                <a:lnTo>
                  <a:pt x="12706" y="17989"/>
                </a:lnTo>
                <a:lnTo>
                  <a:pt x="17092" y="17989"/>
                </a:lnTo>
                <a:lnTo>
                  <a:pt x="17092" y="10800"/>
                </a:lnTo>
                <a:lnTo>
                  <a:pt x="6474" y="10800"/>
                </a:lnTo>
                <a:lnTo>
                  <a:pt x="6474" y="17989"/>
                </a:lnTo>
                <a:lnTo>
                  <a:pt x="10860"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EXAMPLES 5</a:t>
            </a:r>
            <a:endParaRPr b="0" lang="en-US" sz="4400" spc="-1" strike="noStrike">
              <a:solidFill>
                <a:srgbClr val="e5ffff"/>
              </a:solidFill>
              <a:latin typeface="Arial"/>
            </a:endParaRPr>
          </a:p>
        </p:txBody>
      </p:sp>
      <p:sp>
        <p:nvSpPr>
          <p:cNvPr id="16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he main example of tragedy in Julius Caes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6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example of tragedy was when Brutus killed himself.</a:t>
            </a:r>
            <a:endParaRPr b="0" lang="en-US" sz="3200" spc="-1" strike="noStrike">
              <a:solidFill>
                <a:srgbClr val="ffffff"/>
              </a:solidFill>
              <a:latin typeface="Arial"/>
            </a:endParaRPr>
          </a:p>
        </p:txBody>
      </p:sp>
      <p:sp>
        <p:nvSpPr>
          <p:cNvPr id="170" name="">
            <a:hlinkClick r:id="" action="ppaction://hlinkshowjump?jump=firstslide"/>
          </p:cNvPr>
          <p:cNvSpPr/>
          <p:nvPr/>
        </p:nvSpPr>
        <p:spPr>
          <a:xfrm>
            <a:off x="3809880" y="4267080"/>
            <a:ext cx="1143000" cy="1067040"/>
          </a:xfrm>
          <a:custGeom>
            <a:avLst/>
            <a:gdLst>
              <a:gd name="textAreaLeft" fmla="*/ 69120 w 1143000"/>
              <a:gd name="textAreaRight" fmla="*/ 1073880 w 1143000"/>
              <a:gd name="textAreaTop" fmla="*/ 69120 h 1067040"/>
              <a:gd name="textAreaBottom" fmla="*/ 997920 h 1067040"/>
            </a:gdLst>
            <a:ahLst/>
            <a:rect l="textAreaLeft" t="textAreaTop" r="textAreaRight" b="textAreaBottom"/>
            <a:pathLst>
              <a:path w="23137" h="21600">
                <a:moveTo>
                  <a:pt x="0" y="0"/>
                </a:moveTo>
                <a:lnTo>
                  <a:pt x="23137" y="0"/>
                </a:lnTo>
                <a:lnTo>
                  <a:pt x="23137" y="21600"/>
                </a:lnTo>
                <a:lnTo>
                  <a:pt x="0" y="21600"/>
                </a:lnTo>
                <a:close/>
              </a:path>
              <a:path fill="lightenLess" w="23137" h="21600">
                <a:moveTo>
                  <a:pt x="0" y="0"/>
                </a:moveTo>
                <a:lnTo>
                  <a:pt x="23137" y="0"/>
                </a:lnTo>
                <a:lnTo>
                  <a:pt x="21737" y="1400"/>
                </a:lnTo>
                <a:lnTo>
                  <a:pt x="1400" y="1400"/>
                </a:lnTo>
                <a:close/>
              </a:path>
              <a:path fill="darken" w="23137" h="21600">
                <a:moveTo>
                  <a:pt x="23137" y="0"/>
                </a:moveTo>
                <a:lnTo>
                  <a:pt x="23137" y="21600"/>
                </a:lnTo>
                <a:lnTo>
                  <a:pt x="21737" y="20200"/>
                </a:lnTo>
                <a:lnTo>
                  <a:pt x="21737" y="1400"/>
                </a:lnTo>
                <a:close/>
              </a:path>
              <a:path fill="darkenLess" w="23137" h="21600">
                <a:moveTo>
                  <a:pt x="23137" y="21600"/>
                </a:moveTo>
                <a:lnTo>
                  <a:pt x="0" y="21600"/>
                </a:lnTo>
                <a:lnTo>
                  <a:pt x="1400" y="20200"/>
                </a:lnTo>
                <a:lnTo>
                  <a:pt x="21737" y="20200"/>
                </a:lnTo>
                <a:close/>
              </a:path>
              <a:path fill="lighten" w="23137" h="21600">
                <a:moveTo>
                  <a:pt x="0" y="21600"/>
                </a:moveTo>
                <a:lnTo>
                  <a:pt x="0" y="0"/>
                </a:lnTo>
                <a:lnTo>
                  <a:pt x="1400" y="1400"/>
                </a:lnTo>
                <a:lnTo>
                  <a:pt x="1400" y="20200"/>
                </a:lnTo>
                <a:close/>
              </a:path>
              <a:path fill="darken" w="23137" h="21600">
                <a:moveTo>
                  <a:pt x="11569" y="3837"/>
                </a:moveTo>
                <a:lnTo>
                  <a:pt x="14145" y="6448"/>
                </a:lnTo>
                <a:lnTo>
                  <a:pt x="14145" y="4707"/>
                </a:lnTo>
                <a:lnTo>
                  <a:pt x="15920" y="4707"/>
                </a:lnTo>
                <a:lnTo>
                  <a:pt x="15920" y="8224"/>
                </a:lnTo>
                <a:lnTo>
                  <a:pt x="18532" y="10800"/>
                </a:lnTo>
                <a:lnTo>
                  <a:pt x="16878" y="10800"/>
                </a:lnTo>
                <a:lnTo>
                  <a:pt x="16878" y="17989"/>
                </a:lnTo>
                <a:lnTo>
                  <a:pt x="6259" y="17989"/>
                </a:lnTo>
                <a:lnTo>
                  <a:pt x="6259" y="10800"/>
                </a:lnTo>
                <a:lnTo>
                  <a:pt x="4606" y="10800"/>
                </a:lnTo>
                <a:close/>
              </a:path>
              <a:path fill="darkenLess" w="23137" h="21600">
                <a:moveTo>
                  <a:pt x="14145" y="6448"/>
                </a:moveTo>
                <a:lnTo>
                  <a:pt x="14145" y="4707"/>
                </a:lnTo>
                <a:lnTo>
                  <a:pt x="15920" y="4707"/>
                </a:lnTo>
                <a:lnTo>
                  <a:pt x="15920" y="8224"/>
                </a:lnTo>
                <a:close/>
              </a:path>
              <a:path fill="darkenLess" w="23137" h="21600">
                <a:moveTo>
                  <a:pt x="10646" y="14299"/>
                </a:moveTo>
                <a:lnTo>
                  <a:pt x="12491" y="14299"/>
                </a:lnTo>
                <a:lnTo>
                  <a:pt x="12491" y="17989"/>
                </a:lnTo>
                <a:lnTo>
                  <a:pt x="16878" y="17989"/>
                </a:lnTo>
                <a:lnTo>
                  <a:pt x="16878" y="10800"/>
                </a:lnTo>
                <a:lnTo>
                  <a:pt x="6259" y="10800"/>
                </a:lnTo>
                <a:lnTo>
                  <a:pt x="6259" y="17989"/>
                </a:lnTo>
                <a:lnTo>
                  <a:pt x="10646"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HARACTERS 2</a:t>
            </a:r>
            <a:endParaRPr b="0" lang="en-US" sz="4400" spc="-1" strike="noStrike">
              <a:solidFill>
                <a:srgbClr val="e5ffff"/>
              </a:solidFill>
              <a:latin typeface="Arial"/>
            </a:endParaRPr>
          </a:p>
        </p:txBody>
      </p:sp>
      <p:sp>
        <p:nvSpPr>
          <p:cNvPr id="17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f Mice and Men, Lenny keep a mouse.  In some ways this mouse resembled characteristics of Lenny.  What is this an example o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7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n example of symbol.</a:t>
            </a:r>
            <a:endParaRPr b="0" lang="en-US" sz="3200" spc="-1" strike="noStrike">
              <a:solidFill>
                <a:srgbClr val="ffffff"/>
              </a:solidFill>
              <a:latin typeface="Arial"/>
            </a:endParaRPr>
          </a:p>
        </p:txBody>
      </p:sp>
      <p:sp>
        <p:nvSpPr>
          <p:cNvPr id="175" name="">
            <a:hlinkClick r:id="" action="ppaction://hlinkshowjump?jump=firstslide"/>
          </p:cNvPr>
          <p:cNvSpPr/>
          <p:nvPr/>
        </p:nvSpPr>
        <p:spPr>
          <a:xfrm>
            <a:off x="4114800" y="3886200"/>
            <a:ext cx="1066680" cy="1143000"/>
          </a:xfrm>
          <a:custGeom>
            <a:avLst/>
            <a:gdLst>
              <a:gd name="textAreaLeft" fmla="*/ 69120 w 1066680"/>
              <a:gd name="textAreaRight" fmla="*/ 997560 w 1066680"/>
              <a:gd name="textAreaTop" fmla="*/ 69120 h 1143000"/>
              <a:gd name="textAreaBottom" fmla="*/ 1073880 h 1143000"/>
            </a:gdLst>
            <a:ahLst/>
            <a:rect l="textAreaLeft" t="textAreaTop" r="textAreaRight" b="textAreaBottom"/>
            <a:pathLst>
              <a:path w="21600" h="23145">
                <a:moveTo>
                  <a:pt x="0" y="0"/>
                </a:moveTo>
                <a:lnTo>
                  <a:pt x="21600" y="0"/>
                </a:lnTo>
                <a:lnTo>
                  <a:pt x="21600" y="23145"/>
                </a:lnTo>
                <a:lnTo>
                  <a:pt x="0" y="23145"/>
                </a:lnTo>
                <a:close/>
              </a:path>
              <a:path fill="lightenLess" w="21600" h="23145">
                <a:moveTo>
                  <a:pt x="0" y="0"/>
                </a:moveTo>
                <a:lnTo>
                  <a:pt x="21600" y="0"/>
                </a:lnTo>
                <a:lnTo>
                  <a:pt x="20200" y="1400"/>
                </a:lnTo>
                <a:lnTo>
                  <a:pt x="1400" y="1400"/>
                </a:lnTo>
                <a:close/>
              </a:path>
              <a:path fill="darken" w="21600" h="23145">
                <a:moveTo>
                  <a:pt x="21600" y="0"/>
                </a:moveTo>
                <a:lnTo>
                  <a:pt x="21600" y="23145"/>
                </a:lnTo>
                <a:lnTo>
                  <a:pt x="20200" y="21745"/>
                </a:lnTo>
                <a:lnTo>
                  <a:pt x="20200" y="1400"/>
                </a:lnTo>
                <a:close/>
              </a:path>
              <a:path fill="darkenLess" w="21600" h="23145">
                <a:moveTo>
                  <a:pt x="21600" y="23145"/>
                </a:moveTo>
                <a:lnTo>
                  <a:pt x="0" y="23145"/>
                </a:lnTo>
                <a:lnTo>
                  <a:pt x="1400" y="21745"/>
                </a:lnTo>
                <a:lnTo>
                  <a:pt x="20200" y="21745"/>
                </a:lnTo>
                <a:close/>
              </a:path>
              <a:path fill="lighten" w="21600" h="23145">
                <a:moveTo>
                  <a:pt x="0" y="23145"/>
                </a:moveTo>
                <a:lnTo>
                  <a:pt x="0" y="0"/>
                </a:lnTo>
                <a:lnTo>
                  <a:pt x="1400" y="1400"/>
                </a:lnTo>
                <a:lnTo>
                  <a:pt x="1400" y="21745"/>
                </a:lnTo>
                <a:close/>
              </a:path>
              <a:path fill="darken" w="21600" h="23145">
                <a:moveTo>
                  <a:pt x="10800" y="4610"/>
                </a:moveTo>
                <a:lnTo>
                  <a:pt x="13376" y="7221"/>
                </a:lnTo>
                <a:lnTo>
                  <a:pt x="13376" y="5480"/>
                </a:lnTo>
                <a:lnTo>
                  <a:pt x="15152" y="5480"/>
                </a:lnTo>
                <a:lnTo>
                  <a:pt x="15152" y="8996"/>
                </a:lnTo>
                <a:lnTo>
                  <a:pt x="17763" y="11572"/>
                </a:lnTo>
                <a:lnTo>
                  <a:pt x="16109" y="11572"/>
                </a:lnTo>
                <a:lnTo>
                  <a:pt x="16109" y="18762"/>
                </a:lnTo>
                <a:lnTo>
                  <a:pt x="5491" y="18762"/>
                </a:lnTo>
                <a:lnTo>
                  <a:pt x="5491" y="11572"/>
                </a:lnTo>
                <a:lnTo>
                  <a:pt x="3837" y="11572"/>
                </a:lnTo>
                <a:close/>
              </a:path>
              <a:path fill="darkenLess" w="21600" h="23145">
                <a:moveTo>
                  <a:pt x="13376" y="7221"/>
                </a:moveTo>
                <a:lnTo>
                  <a:pt x="13376" y="5480"/>
                </a:lnTo>
                <a:lnTo>
                  <a:pt x="15152" y="5480"/>
                </a:lnTo>
                <a:lnTo>
                  <a:pt x="15152" y="8996"/>
                </a:lnTo>
                <a:close/>
              </a:path>
              <a:path fill="darkenLess" w="21600" h="23145">
                <a:moveTo>
                  <a:pt x="9877" y="15071"/>
                </a:moveTo>
                <a:lnTo>
                  <a:pt x="11723" y="15071"/>
                </a:lnTo>
                <a:lnTo>
                  <a:pt x="11723" y="18762"/>
                </a:lnTo>
                <a:lnTo>
                  <a:pt x="16109" y="18762"/>
                </a:lnTo>
                <a:lnTo>
                  <a:pt x="16109" y="11572"/>
                </a:lnTo>
                <a:lnTo>
                  <a:pt x="5491" y="11572"/>
                </a:lnTo>
                <a:lnTo>
                  <a:pt x="5491" y="18762"/>
                </a:lnTo>
                <a:lnTo>
                  <a:pt x="9877" y="18762"/>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5</a:t>
            </a:r>
            <a:endParaRPr b="0" lang="en-US" sz="4400" spc="-1" strike="noStrike">
              <a:solidFill>
                <a:srgbClr val="e5ffff"/>
              </a:solidFill>
              <a:latin typeface="Arial"/>
            </a:endParaRPr>
          </a:p>
        </p:txBody>
      </p:sp>
      <p:sp>
        <p:nvSpPr>
          <p:cNvPr id="17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 of the answers below, which is considered a theme in Of Mice and Men?</a:t>
            </a:r>
            <a:endParaRPr b="0" lang="en-US" sz="2800" spc="-1" strike="noStrike">
              <a:solidFill>
                <a:srgbClr val="ffffff"/>
              </a:solidFill>
              <a:latin typeface="Arial"/>
            </a:endParaRPr>
          </a:p>
          <a:p>
            <a:pPr marL="609480" indent="-609480">
              <a:lnSpc>
                <a:spcPct val="90000"/>
              </a:lnSpc>
              <a:spcBef>
                <a:spcPts val="700"/>
              </a:spcBef>
              <a:buClr>
                <a:srgbClr val="00ccff"/>
              </a:buClr>
              <a:buSzPct val="6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help a friend if they are in need.</a:t>
            </a:r>
            <a:endParaRPr b="0" lang="en-US" sz="2800" spc="-1" strike="noStrike">
              <a:solidFill>
                <a:srgbClr val="ffffff"/>
              </a:solidFill>
              <a:latin typeface="Arial"/>
            </a:endParaRPr>
          </a:p>
          <a:p>
            <a:pPr marL="609480" indent="-609480">
              <a:lnSpc>
                <a:spcPct val="90000"/>
              </a:lnSpc>
              <a:spcBef>
                <a:spcPts val="700"/>
              </a:spcBef>
              <a:buClr>
                <a:srgbClr val="00ccff"/>
              </a:buClr>
              <a:buSzPct val="6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keep promises.</a:t>
            </a:r>
            <a:endParaRPr b="0" lang="en-US" sz="2800" spc="-1" strike="noStrike">
              <a:solidFill>
                <a:srgbClr val="ffffff"/>
              </a:solidFill>
              <a:latin typeface="Arial"/>
            </a:endParaRPr>
          </a:p>
          <a:p>
            <a:pPr marL="609480" indent="-609480">
              <a:lnSpc>
                <a:spcPct val="90000"/>
              </a:lnSpc>
              <a:spcBef>
                <a:spcPts val="700"/>
              </a:spcBef>
              <a:buClr>
                <a:srgbClr val="00ccff"/>
              </a:buClr>
              <a:buSzPct val="6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ing a friend is more important than going against others.</a:t>
            </a:r>
            <a:endParaRPr b="0" lang="en-US" sz="2800" spc="-1" strike="noStrike">
              <a:solidFill>
                <a:srgbClr val="ffffff"/>
              </a:solidFill>
              <a:latin typeface="Arial"/>
            </a:endParaRPr>
          </a:p>
          <a:p>
            <a:pPr marL="609480" indent="-609480">
              <a:lnSpc>
                <a:spcPct val="90000"/>
              </a:lnSpc>
              <a:spcBef>
                <a:spcPts val="700"/>
              </a:spcBef>
              <a:buClr>
                <a:srgbClr val="00ccff"/>
              </a:buClr>
              <a:buSzPct val="6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y are not your friend, do not help them.</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Arial"/>
                <a:hlinkClick r:id="rId2" action="ppaction://hlinksldjump"/>
              </a:rPr>
              <a:t>Answ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7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being a friend is more important than going against others.</a:t>
            </a:r>
            <a:endParaRPr b="0" lang="en-US" sz="3200" spc="-1" strike="noStrike">
              <a:solidFill>
                <a:srgbClr val="ffffff"/>
              </a:solidFill>
              <a:latin typeface="Arial"/>
            </a:endParaRPr>
          </a:p>
        </p:txBody>
      </p:sp>
      <p:sp>
        <p:nvSpPr>
          <p:cNvPr id="180" name="">
            <a:hlinkClick r:id="" action="ppaction://hlinkshowjump?jump=firstslide"/>
          </p:cNvPr>
          <p:cNvSpPr/>
          <p:nvPr/>
        </p:nvSpPr>
        <p:spPr>
          <a:xfrm>
            <a:off x="4114800" y="4267080"/>
            <a:ext cx="1066680" cy="990720"/>
          </a:xfrm>
          <a:custGeom>
            <a:avLst/>
            <a:gdLst>
              <a:gd name="textAreaLeft" fmla="*/ 64080 w 1066680"/>
              <a:gd name="textAreaRight" fmla="*/ 1002600 w 1066680"/>
              <a:gd name="textAreaTop" fmla="*/ 64080 h 990720"/>
              <a:gd name="textAreaBottom" fmla="*/ 926640 h 990720"/>
            </a:gdLst>
            <a:ahLst/>
            <a:rect l="textAreaLeft" t="textAreaTop" r="textAreaRight" b="textAreaBottom"/>
            <a:pathLst>
              <a:path w="23256" h="21600">
                <a:moveTo>
                  <a:pt x="0" y="0"/>
                </a:moveTo>
                <a:lnTo>
                  <a:pt x="23256" y="0"/>
                </a:lnTo>
                <a:lnTo>
                  <a:pt x="23256" y="21600"/>
                </a:lnTo>
                <a:lnTo>
                  <a:pt x="0" y="21600"/>
                </a:lnTo>
                <a:close/>
              </a:path>
              <a:path fill="lightenLess" w="23256" h="21600">
                <a:moveTo>
                  <a:pt x="0" y="0"/>
                </a:moveTo>
                <a:lnTo>
                  <a:pt x="23256" y="0"/>
                </a:lnTo>
                <a:lnTo>
                  <a:pt x="21856" y="1400"/>
                </a:lnTo>
                <a:lnTo>
                  <a:pt x="1400" y="1400"/>
                </a:lnTo>
                <a:close/>
              </a:path>
              <a:path fill="darken" w="23256" h="21600">
                <a:moveTo>
                  <a:pt x="23256" y="0"/>
                </a:moveTo>
                <a:lnTo>
                  <a:pt x="23256" y="21600"/>
                </a:lnTo>
                <a:lnTo>
                  <a:pt x="21856" y="20200"/>
                </a:lnTo>
                <a:lnTo>
                  <a:pt x="21856" y="1400"/>
                </a:lnTo>
                <a:close/>
              </a:path>
              <a:path fill="darkenLess" w="23256" h="21600">
                <a:moveTo>
                  <a:pt x="23256" y="21600"/>
                </a:moveTo>
                <a:lnTo>
                  <a:pt x="0" y="21600"/>
                </a:lnTo>
                <a:lnTo>
                  <a:pt x="1400" y="20200"/>
                </a:lnTo>
                <a:lnTo>
                  <a:pt x="21856" y="20200"/>
                </a:lnTo>
                <a:close/>
              </a:path>
              <a:path fill="lighten" w="23256" h="21600">
                <a:moveTo>
                  <a:pt x="0" y="21600"/>
                </a:moveTo>
                <a:lnTo>
                  <a:pt x="0" y="0"/>
                </a:lnTo>
                <a:lnTo>
                  <a:pt x="1400" y="1400"/>
                </a:lnTo>
                <a:lnTo>
                  <a:pt x="1400" y="20200"/>
                </a:lnTo>
                <a:close/>
              </a:path>
              <a:path fill="darken" w="23256" h="21600">
                <a:moveTo>
                  <a:pt x="11628" y="3837"/>
                </a:moveTo>
                <a:lnTo>
                  <a:pt x="14204" y="6448"/>
                </a:lnTo>
                <a:lnTo>
                  <a:pt x="14204" y="4707"/>
                </a:lnTo>
                <a:lnTo>
                  <a:pt x="15980" y="4707"/>
                </a:lnTo>
                <a:lnTo>
                  <a:pt x="15980" y="8224"/>
                </a:lnTo>
                <a:lnTo>
                  <a:pt x="18591" y="10800"/>
                </a:lnTo>
                <a:lnTo>
                  <a:pt x="16937" y="10800"/>
                </a:lnTo>
                <a:lnTo>
                  <a:pt x="16937" y="17989"/>
                </a:lnTo>
                <a:lnTo>
                  <a:pt x="6318" y="17989"/>
                </a:lnTo>
                <a:lnTo>
                  <a:pt x="6318" y="10800"/>
                </a:lnTo>
                <a:lnTo>
                  <a:pt x="4665" y="10800"/>
                </a:lnTo>
                <a:close/>
              </a:path>
              <a:path fill="darkenLess" w="23256" h="21600">
                <a:moveTo>
                  <a:pt x="14204" y="6448"/>
                </a:moveTo>
                <a:lnTo>
                  <a:pt x="14204" y="4707"/>
                </a:lnTo>
                <a:lnTo>
                  <a:pt x="15980" y="4707"/>
                </a:lnTo>
                <a:lnTo>
                  <a:pt x="15980" y="8224"/>
                </a:lnTo>
                <a:close/>
              </a:path>
              <a:path fill="darkenLess" w="23256" h="21600">
                <a:moveTo>
                  <a:pt x="10705" y="14299"/>
                </a:moveTo>
                <a:lnTo>
                  <a:pt x="12550" y="14299"/>
                </a:lnTo>
                <a:lnTo>
                  <a:pt x="12550" y="17989"/>
                </a:lnTo>
                <a:lnTo>
                  <a:pt x="16937" y="17989"/>
                </a:lnTo>
                <a:lnTo>
                  <a:pt x="16937" y="10800"/>
                </a:lnTo>
                <a:lnTo>
                  <a:pt x="6318" y="10800"/>
                </a:lnTo>
                <a:lnTo>
                  <a:pt x="6318" y="17989"/>
                </a:lnTo>
                <a:lnTo>
                  <a:pt x="10705"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1</a:t>
            </a:r>
            <a:endParaRPr b="0" lang="en-US" sz="4400" spc="-1" strike="noStrike">
              <a:solidFill>
                <a:srgbClr val="e5ffff"/>
              </a:solidFill>
              <a:latin typeface="Arial"/>
            </a:endParaRPr>
          </a:p>
        </p:txBody>
      </p:sp>
      <p:sp>
        <p:nvSpPr>
          <p:cNvPr id="91"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tory, To Kill a Mockingbird, who would be considered the narrat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cou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ticu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J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Ms. Maudi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Arial"/>
                <a:hlinkClick r:id="rId2" action="ppaction://hlinksldjump"/>
              </a:rPr>
              <a:t>Answer</a:t>
            </a:r>
            <a:endParaRPr b="0" lang="en-US" sz="2800" spc="-1" strike="noStrike">
              <a:solidFill>
                <a:srgbClr val="ffffff"/>
              </a:solidFill>
              <a:latin typeface="Arial"/>
            </a:endParaRPr>
          </a:p>
        </p:txBody>
      </p:sp>
      <p:sp>
        <p:nvSpPr>
          <p:cNvPr id="92" name=""/>
          <p:cNvSpPr/>
          <p:nvPr/>
        </p:nvSpPr>
        <p:spPr>
          <a:xfrm>
            <a:off x="4178160" y="10666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HARACTERS 5</a:t>
            </a:r>
            <a:endParaRPr b="0" lang="en-US" sz="4400" spc="-1" strike="noStrike">
              <a:solidFill>
                <a:srgbClr val="e5ffff"/>
              </a:solidFill>
              <a:latin typeface="Arial"/>
            </a:endParaRPr>
          </a:p>
        </p:txBody>
      </p:sp>
      <p:sp>
        <p:nvSpPr>
          <p:cNvPr id="18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tone of Scout’s voice in To Kill a Mockingbir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8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sure of the what exactly is going on.</a:t>
            </a:r>
            <a:endParaRPr b="0" lang="en-US" sz="3200" spc="-1" strike="noStrike">
              <a:solidFill>
                <a:srgbClr val="ffffff"/>
              </a:solidFill>
              <a:latin typeface="Arial"/>
            </a:endParaRPr>
          </a:p>
        </p:txBody>
      </p:sp>
      <p:sp>
        <p:nvSpPr>
          <p:cNvPr id="185" name="">
            <a:hlinkClick r:id="" action="ppaction://hlinkshowjump?jump=firstslide"/>
          </p:cNvPr>
          <p:cNvSpPr/>
          <p:nvPr/>
        </p:nvSpPr>
        <p:spPr>
          <a:xfrm>
            <a:off x="3886200" y="4114800"/>
            <a:ext cx="1066680" cy="990720"/>
          </a:xfrm>
          <a:custGeom>
            <a:avLst/>
            <a:gdLst>
              <a:gd name="textAreaLeft" fmla="*/ 64080 w 1066680"/>
              <a:gd name="textAreaRight" fmla="*/ 1002600 w 1066680"/>
              <a:gd name="textAreaTop" fmla="*/ 64080 h 990720"/>
              <a:gd name="textAreaBottom" fmla="*/ 926640 h 990720"/>
            </a:gdLst>
            <a:ahLst/>
            <a:rect l="textAreaLeft" t="textAreaTop" r="textAreaRight" b="textAreaBottom"/>
            <a:pathLst>
              <a:path w="23256" h="21600">
                <a:moveTo>
                  <a:pt x="0" y="0"/>
                </a:moveTo>
                <a:lnTo>
                  <a:pt x="23256" y="0"/>
                </a:lnTo>
                <a:lnTo>
                  <a:pt x="23256" y="21600"/>
                </a:lnTo>
                <a:lnTo>
                  <a:pt x="0" y="21600"/>
                </a:lnTo>
                <a:close/>
              </a:path>
              <a:path fill="lightenLess" w="23256" h="21600">
                <a:moveTo>
                  <a:pt x="0" y="0"/>
                </a:moveTo>
                <a:lnTo>
                  <a:pt x="23256" y="0"/>
                </a:lnTo>
                <a:lnTo>
                  <a:pt x="21856" y="1400"/>
                </a:lnTo>
                <a:lnTo>
                  <a:pt x="1400" y="1400"/>
                </a:lnTo>
                <a:close/>
              </a:path>
              <a:path fill="darken" w="23256" h="21600">
                <a:moveTo>
                  <a:pt x="23256" y="0"/>
                </a:moveTo>
                <a:lnTo>
                  <a:pt x="23256" y="21600"/>
                </a:lnTo>
                <a:lnTo>
                  <a:pt x="21856" y="20200"/>
                </a:lnTo>
                <a:lnTo>
                  <a:pt x="21856" y="1400"/>
                </a:lnTo>
                <a:close/>
              </a:path>
              <a:path fill="darkenLess" w="23256" h="21600">
                <a:moveTo>
                  <a:pt x="23256" y="21600"/>
                </a:moveTo>
                <a:lnTo>
                  <a:pt x="0" y="21600"/>
                </a:lnTo>
                <a:lnTo>
                  <a:pt x="1400" y="20200"/>
                </a:lnTo>
                <a:lnTo>
                  <a:pt x="21856" y="20200"/>
                </a:lnTo>
                <a:close/>
              </a:path>
              <a:path fill="lighten" w="23256" h="21600">
                <a:moveTo>
                  <a:pt x="0" y="21600"/>
                </a:moveTo>
                <a:lnTo>
                  <a:pt x="0" y="0"/>
                </a:lnTo>
                <a:lnTo>
                  <a:pt x="1400" y="1400"/>
                </a:lnTo>
                <a:lnTo>
                  <a:pt x="1400" y="20200"/>
                </a:lnTo>
                <a:close/>
              </a:path>
              <a:path fill="darken" w="23256" h="21600">
                <a:moveTo>
                  <a:pt x="11628" y="3837"/>
                </a:moveTo>
                <a:lnTo>
                  <a:pt x="14204" y="6448"/>
                </a:lnTo>
                <a:lnTo>
                  <a:pt x="14204" y="4707"/>
                </a:lnTo>
                <a:lnTo>
                  <a:pt x="15980" y="4707"/>
                </a:lnTo>
                <a:lnTo>
                  <a:pt x="15980" y="8224"/>
                </a:lnTo>
                <a:lnTo>
                  <a:pt x="18591" y="10800"/>
                </a:lnTo>
                <a:lnTo>
                  <a:pt x="16937" y="10800"/>
                </a:lnTo>
                <a:lnTo>
                  <a:pt x="16937" y="17989"/>
                </a:lnTo>
                <a:lnTo>
                  <a:pt x="6318" y="17989"/>
                </a:lnTo>
                <a:lnTo>
                  <a:pt x="6318" y="10800"/>
                </a:lnTo>
                <a:lnTo>
                  <a:pt x="4665" y="10800"/>
                </a:lnTo>
                <a:close/>
              </a:path>
              <a:path fill="darkenLess" w="23256" h="21600">
                <a:moveTo>
                  <a:pt x="14204" y="6448"/>
                </a:moveTo>
                <a:lnTo>
                  <a:pt x="14204" y="4707"/>
                </a:lnTo>
                <a:lnTo>
                  <a:pt x="15980" y="4707"/>
                </a:lnTo>
                <a:lnTo>
                  <a:pt x="15980" y="8224"/>
                </a:lnTo>
                <a:close/>
              </a:path>
              <a:path fill="darkenLess" w="23256" h="21600">
                <a:moveTo>
                  <a:pt x="10705" y="14299"/>
                </a:moveTo>
                <a:lnTo>
                  <a:pt x="12550" y="14299"/>
                </a:lnTo>
                <a:lnTo>
                  <a:pt x="12550" y="17989"/>
                </a:lnTo>
                <a:lnTo>
                  <a:pt x="16937" y="17989"/>
                </a:lnTo>
                <a:lnTo>
                  <a:pt x="16937" y="10800"/>
                </a:lnTo>
                <a:lnTo>
                  <a:pt x="6318" y="10800"/>
                </a:lnTo>
                <a:lnTo>
                  <a:pt x="6318" y="17989"/>
                </a:lnTo>
                <a:lnTo>
                  <a:pt x="10705"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Figurative Language 5</a:t>
            </a:r>
            <a:endParaRPr b="0" lang="en-US" sz="4400" spc="-1" strike="noStrike">
              <a:solidFill>
                <a:srgbClr val="e5ffff"/>
              </a:solidFill>
              <a:latin typeface="Arial"/>
            </a:endParaRPr>
          </a:p>
        </p:txBody>
      </p:sp>
      <p:sp>
        <p:nvSpPr>
          <p:cNvPr id="18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he setting in To Kill a Mockingbir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8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comb county was the setting for To Kill a Mockingbi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
            <a:hlinkClick r:id="" action="ppaction://hlinkshowjump?jump=firstslide"/>
          </p:cNvPr>
          <p:cNvSpPr/>
          <p:nvPr/>
        </p:nvSpPr>
        <p:spPr>
          <a:xfrm>
            <a:off x="3581280" y="4495680"/>
            <a:ext cx="1219320" cy="1295640"/>
          </a:xfrm>
          <a:custGeom>
            <a:avLst/>
            <a:gdLst>
              <a:gd name="textAreaLeft" fmla="*/ 78840 w 1219320"/>
              <a:gd name="textAreaRight" fmla="*/ 1140480 w 1219320"/>
              <a:gd name="textAreaTop" fmla="*/ 78840 h 1295640"/>
              <a:gd name="textAreaBottom" fmla="*/ 1216800 h 1295640"/>
            </a:gdLst>
            <a:ahLst/>
            <a:rect l="textAreaLeft" t="textAreaTop" r="textAreaRight" b="textAreaBottom"/>
            <a:pathLst>
              <a:path w="21600" h="22952">
                <a:moveTo>
                  <a:pt x="0" y="0"/>
                </a:moveTo>
                <a:lnTo>
                  <a:pt x="21600" y="0"/>
                </a:lnTo>
                <a:lnTo>
                  <a:pt x="21600" y="22952"/>
                </a:lnTo>
                <a:lnTo>
                  <a:pt x="0" y="22952"/>
                </a:lnTo>
                <a:close/>
              </a:path>
              <a:path fill="lightenLess" w="21600" h="22952">
                <a:moveTo>
                  <a:pt x="0" y="0"/>
                </a:moveTo>
                <a:lnTo>
                  <a:pt x="21600" y="0"/>
                </a:lnTo>
                <a:lnTo>
                  <a:pt x="20200" y="1400"/>
                </a:lnTo>
                <a:lnTo>
                  <a:pt x="1400" y="1400"/>
                </a:lnTo>
                <a:close/>
              </a:path>
              <a:path fill="darken" w="21600" h="22952">
                <a:moveTo>
                  <a:pt x="21600" y="0"/>
                </a:moveTo>
                <a:lnTo>
                  <a:pt x="21600" y="22952"/>
                </a:lnTo>
                <a:lnTo>
                  <a:pt x="20200" y="21552"/>
                </a:lnTo>
                <a:lnTo>
                  <a:pt x="20200" y="1400"/>
                </a:lnTo>
                <a:close/>
              </a:path>
              <a:path fill="darkenLess" w="21600" h="22952">
                <a:moveTo>
                  <a:pt x="21600" y="22952"/>
                </a:moveTo>
                <a:lnTo>
                  <a:pt x="0" y="22952"/>
                </a:lnTo>
                <a:lnTo>
                  <a:pt x="1400" y="21552"/>
                </a:lnTo>
                <a:lnTo>
                  <a:pt x="20200" y="21552"/>
                </a:lnTo>
                <a:close/>
              </a:path>
              <a:path fill="lighten" w="21600" h="22952">
                <a:moveTo>
                  <a:pt x="0" y="22952"/>
                </a:moveTo>
                <a:lnTo>
                  <a:pt x="0" y="0"/>
                </a:lnTo>
                <a:lnTo>
                  <a:pt x="1400" y="1400"/>
                </a:lnTo>
                <a:lnTo>
                  <a:pt x="1400" y="21552"/>
                </a:lnTo>
                <a:close/>
              </a:path>
              <a:path fill="darken" w="21600" h="22952">
                <a:moveTo>
                  <a:pt x="10800" y="4513"/>
                </a:moveTo>
                <a:lnTo>
                  <a:pt x="13376" y="7124"/>
                </a:lnTo>
                <a:lnTo>
                  <a:pt x="13376" y="5383"/>
                </a:lnTo>
                <a:lnTo>
                  <a:pt x="15152" y="5383"/>
                </a:lnTo>
                <a:lnTo>
                  <a:pt x="15152" y="8900"/>
                </a:lnTo>
                <a:lnTo>
                  <a:pt x="17763" y="11476"/>
                </a:lnTo>
                <a:lnTo>
                  <a:pt x="16109" y="11476"/>
                </a:lnTo>
                <a:lnTo>
                  <a:pt x="16109" y="18665"/>
                </a:lnTo>
                <a:lnTo>
                  <a:pt x="5491" y="18665"/>
                </a:lnTo>
                <a:lnTo>
                  <a:pt x="5491" y="11476"/>
                </a:lnTo>
                <a:lnTo>
                  <a:pt x="3837" y="11476"/>
                </a:lnTo>
                <a:close/>
              </a:path>
              <a:path fill="darkenLess" w="21600" h="22952">
                <a:moveTo>
                  <a:pt x="13376" y="7124"/>
                </a:moveTo>
                <a:lnTo>
                  <a:pt x="13376" y="5383"/>
                </a:lnTo>
                <a:lnTo>
                  <a:pt x="15152" y="5383"/>
                </a:lnTo>
                <a:lnTo>
                  <a:pt x="15152" y="8900"/>
                </a:lnTo>
                <a:close/>
              </a:path>
              <a:path fill="darkenLess" w="21600" h="22952">
                <a:moveTo>
                  <a:pt x="9877" y="14975"/>
                </a:moveTo>
                <a:lnTo>
                  <a:pt x="11723" y="14975"/>
                </a:lnTo>
                <a:lnTo>
                  <a:pt x="11723" y="18665"/>
                </a:lnTo>
                <a:lnTo>
                  <a:pt x="16109" y="18665"/>
                </a:lnTo>
                <a:lnTo>
                  <a:pt x="16109" y="11476"/>
                </a:lnTo>
                <a:lnTo>
                  <a:pt x="5491" y="11476"/>
                </a:lnTo>
                <a:lnTo>
                  <a:pt x="5491" y="18665"/>
                </a:lnTo>
                <a:lnTo>
                  <a:pt x="9877" y="18665"/>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9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out is the narrator of To Kill a Mockingbird.</a:t>
            </a:r>
            <a:endParaRPr b="0" lang="en-US" sz="3200" spc="-1" strike="noStrike">
              <a:solidFill>
                <a:srgbClr val="ffffff"/>
              </a:solidFill>
              <a:latin typeface="Arial"/>
            </a:endParaRPr>
          </a:p>
        </p:txBody>
      </p:sp>
      <p:sp>
        <p:nvSpPr>
          <p:cNvPr id="95" name="">
            <a:hlinkClick r:id="" action="ppaction://hlinkshowjump?jump=firstslide"/>
          </p:cNvPr>
          <p:cNvSpPr/>
          <p:nvPr/>
        </p:nvSpPr>
        <p:spPr>
          <a:xfrm>
            <a:off x="2819520" y="5181480"/>
            <a:ext cx="1143000" cy="990720"/>
          </a:xfrm>
          <a:custGeom>
            <a:avLst/>
            <a:gdLst>
              <a:gd name="textAreaLeft" fmla="*/ 64080 w 1143000"/>
              <a:gd name="textAreaRight" fmla="*/ 1078920 w 1143000"/>
              <a:gd name="textAreaTop" fmla="*/ 64080 h 990720"/>
              <a:gd name="textAreaBottom" fmla="*/ 92664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3519" y="1400"/>
                </a:lnTo>
                <a:lnTo>
                  <a:pt x="1400" y="1400"/>
                </a:lnTo>
                <a:close/>
              </a:path>
              <a:path fill="darken" w="24919" h="21600">
                <a:moveTo>
                  <a:pt x="24919" y="0"/>
                </a:moveTo>
                <a:lnTo>
                  <a:pt x="24919" y="21600"/>
                </a:lnTo>
                <a:lnTo>
                  <a:pt x="23519" y="20200"/>
                </a:lnTo>
                <a:lnTo>
                  <a:pt x="23519" y="1400"/>
                </a:lnTo>
                <a:close/>
              </a:path>
              <a:path fill="darkenLess" w="24919" h="21600">
                <a:moveTo>
                  <a:pt x="24919" y="21600"/>
                </a:moveTo>
                <a:lnTo>
                  <a:pt x="0" y="21600"/>
                </a:lnTo>
                <a:lnTo>
                  <a:pt x="1400" y="20200"/>
                </a:lnTo>
                <a:lnTo>
                  <a:pt x="23519" y="20200"/>
                </a:lnTo>
                <a:close/>
              </a:path>
              <a:path fill="lighten" w="24919" h="21600">
                <a:moveTo>
                  <a:pt x="0" y="21600"/>
                </a:moveTo>
                <a:lnTo>
                  <a:pt x="0" y="0"/>
                </a:lnTo>
                <a:lnTo>
                  <a:pt x="1400" y="1400"/>
                </a:lnTo>
                <a:lnTo>
                  <a:pt x="1400" y="20200"/>
                </a:lnTo>
                <a:close/>
              </a:path>
              <a:path fill="darken" w="24919" h="21600">
                <a:moveTo>
                  <a:pt x="12459" y="3837"/>
                </a:moveTo>
                <a:lnTo>
                  <a:pt x="15036" y="6448"/>
                </a:lnTo>
                <a:lnTo>
                  <a:pt x="15036" y="4707"/>
                </a:lnTo>
                <a:lnTo>
                  <a:pt x="16811" y="4707"/>
                </a:lnTo>
                <a:lnTo>
                  <a:pt x="16811" y="8224"/>
                </a:lnTo>
                <a:lnTo>
                  <a:pt x="19422" y="10800"/>
                </a:lnTo>
                <a:lnTo>
                  <a:pt x="17769" y="10800"/>
                </a:lnTo>
                <a:lnTo>
                  <a:pt x="17769" y="17989"/>
                </a:lnTo>
                <a:lnTo>
                  <a:pt x="7150" y="17989"/>
                </a:lnTo>
                <a:lnTo>
                  <a:pt x="7150" y="10800"/>
                </a:lnTo>
                <a:lnTo>
                  <a:pt x="5496" y="10800"/>
                </a:lnTo>
                <a:close/>
              </a:path>
              <a:path fill="darkenLess" w="24919" h="21600">
                <a:moveTo>
                  <a:pt x="15036" y="6448"/>
                </a:moveTo>
                <a:lnTo>
                  <a:pt x="15036" y="4707"/>
                </a:lnTo>
                <a:lnTo>
                  <a:pt x="16811" y="4707"/>
                </a:lnTo>
                <a:lnTo>
                  <a:pt x="16811" y="8224"/>
                </a:lnTo>
                <a:close/>
              </a:path>
              <a:path fill="darkenLess" w="24919" h="21600">
                <a:moveTo>
                  <a:pt x="11537" y="14299"/>
                </a:moveTo>
                <a:lnTo>
                  <a:pt x="13382" y="14299"/>
                </a:lnTo>
                <a:lnTo>
                  <a:pt x="13382" y="17989"/>
                </a:lnTo>
                <a:lnTo>
                  <a:pt x="17769" y="17989"/>
                </a:lnTo>
                <a:lnTo>
                  <a:pt x="17769" y="10800"/>
                </a:lnTo>
                <a:lnTo>
                  <a:pt x="7150" y="10800"/>
                </a:lnTo>
                <a:lnTo>
                  <a:pt x="7150" y="17989"/>
                </a:lnTo>
                <a:lnTo>
                  <a:pt x="1153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FIGURATIVE LANGUAGE 1</a:t>
            </a:r>
            <a:endParaRPr b="0" lang="en-US" sz="4400" spc="-1" strike="noStrike">
              <a:solidFill>
                <a:srgbClr val="e5ffff"/>
              </a:solidFill>
              <a:latin typeface="Arial"/>
            </a:endParaRPr>
          </a:p>
        </p:txBody>
      </p:sp>
      <p:sp>
        <p:nvSpPr>
          <p:cNvPr id="9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rs danced playfully in the sky.</a:t>
            </a:r>
            <a:endParaRPr b="0" lang="en-US" sz="3200" spc="-1" strike="noStrike">
              <a:solidFill>
                <a:srgbClr val="ffffff"/>
              </a:solidFill>
              <a:latin typeface="Arial"/>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is an example of?</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9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ification</a:t>
            </a:r>
            <a:endParaRPr b="0" lang="en-US" sz="3200" spc="-1" strike="noStrike">
              <a:solidFill>
                <a:srgbClr val="ffffff"/>
              </a:solidFill>
              <a:latin typeface="Arial"/>
            </a:endParaRPr>
          </a:p>
        </p:txBody>
      </p:sp>
      <p:sp>
        <p:nvSpPr>
          <p:cNvPr id="100" name="">
            <a:hlinkClick r:id="" action="ppaction://hlinkshowjump?jump=firstslide"/>
          </p:cNvPr>
          <p:cNvSpPr/>
          <p:nvPr/>
        </p:nvSpPr>
        <p:spPr>
          <a:xfrm>
            <a:off x="2590920" y="4419720"/>
            <a:ext cx="1143000" cy="1143000"/>
          </a:xfrm>
          <a:custGeom>
            <a:avLst/>
            <a:gdLst>
              <a:gd name="textAreaLeft" fmla="*/ 73800 w 1143000"/>
              <a:gd name="textAreaRight" fmla="*/ 1069200 w 1143000"/>
              <a:gd name="textAreaTop" fmla="*/ 73800 h 1143000"/>
              <a:gd name="textAreaBottom" fmla="*/ 1069200 h 1143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2</a:t>
            </a:r>
            <a:endParaRPr b="0" lang="en-US" sz="4400" spc="-1" strike="noStrike">
              <a:solidFill>
                <a:srgbClr val="e5ffff"/>
              </a:solidFill>
              <a:latin typeface="Arial"/>
            </a:endParaRPr>
          </a:p>
        </p:txBody>
      </p:sp>
      <p:sp>
        <p:nvSpPr>
          <p:cNvPr id="10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ot is the action taking place in a story.  What is the main plot in Of Mice and M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0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lot is Lenny and George working in a new farm because they were forced out of the previous one.  They experience many difficulties at the new location.</a:t>
            </a:r>
            <a:endParaRPr b="0" lang="en-US" sz="3200" spc="-1" strike="noStrike">
              <a:solidFill>
                <a:srgbClr val="ffffff"/>
              </a:solidFill>
              <a:latin typeface="Arial"/>
            </a:endParaRPr>
          </a:p>
        </p:txBody>
      </p:sp>
      <p:sp>
        <p:nvSpPr>
          <p:cNvPr id="105" name="">
            <a:hlinkClick r:id="" action="ppaction://hlinkshowjump?jump=firstslide"/>
          </p:cNvPr>
          <p:cNvSpPr/>
          <p:nvPr/>
        </p:nvSpPr>
        <p:spPr>
          <a:xfrm>
            <a:off x="2286000" y="4876920"/>
            <a:ext cx="1066680" cy="990360"/>
          </a:xfrm>
          <a:custGeom>
            <a:avLst/>
            <a:gdLst>
              <a:gd name="textAreaLeft" fmla="*/ 64080 w 1066680"/>
              <a:gd name="textAreaRight" fmla="*/ 1002600 w 1066680"/>
              <a:gd name="textAreaTop" fmla="*/ 64080 h 990360"/>
              <a:gd name="textAreaBottom" fmla="*/ 926280 h 990360"/>
            </a:gdLst>
            <a:ahLst/>
            <a:rect l="textAreaLeft" t="textAreaTop" r="textAreaRight" b="textAreaBottom"/>
            <a:pathLst>
              <a:path w="23264" h="21600">
                <a:moveTo>
                  <a:pt x="0" y="0"/>
                </a:moveTo>
                <a:lnTo>
                  <a:pt x="23264" y="0"/>
                </a:lnTo>
                <a:lnTo>
                  <a:pt x="23264" y="21600"/>
                </a:lnTo>
                <a:lnTo>
                  <a:pt x="0" y="21600"/>
                </a:lnTo>
                <a:close/>
              </a:path>
              <a:path fill="lightenLess" w="23264" h="21600">
                <a:moveTo>
                  <a:pt x="0" y="0"/>
                </a:moveTo>
                <a:lnTo>
                  <a:pt x="23264" y="0"/>
                </a:lnTo>
                <a:lnTo>
                  <a:pt x="21864" y="1400"/>
                </a:lnTo>
                <a:lnTo>
                  <a:pt x="1400" y="1400"/>
                </a:lnTo>
                <a:close/>
              </a:path>
              <a:path fill="darken" w="23264" h="21600">
                <a:moveTo>
                  <a:pt x="23264" y="0"/>
                </a:moveTo>
                <a:lnTo>
                  <a:pt x="23264" y="21600"/>
                </a:lnTo>
                <a:lnTo>
                  <a:pt x="21864" y="20200"/>
                </a:lnTo>
                <a:lnTo>
                  <a:pt x="21864" y="1400"/>
                </a:lnTo>
                <a:close/>
              </a:path>
              <a:path fill="darkenLess" w="23264" h="21600">
                <a:moveTo>
                  <a:pt x="23264" y="21600"/>
                </a:moveTo>
                <a:lnTo>
                  <a:pt x="0" y="21600"/>
                </a:lnTo>
                <a:lnTo>
                  <a:pt x="1400" y="20200"/>
                </a:lnTo>
                <a:lnTo>
                  <a:pt x="21864" y="20200"/>
                </a:lnTo>
                <a:close/>
              </a:path>
              <a:path fill="lighten" w="23264" h="21600">
                <a:moveTo>
                  <a:pt x="0" y="21600"/>
                </a:moveTo>
                <a:lnTo>
                  <a:pt x="0" y="0"/>
                </a:lnTo>
                <a:lnTo>
                  <a:pt x="1400" y="1400"/>
                </a:lnTo>
                <a:lnTo>
                  <a:pt x="1400" y="20200"/>
                </a:lnTo>
                <a:close/>
              </a:path>
              <a:path fill="darken" w="23264" h="21600">
                <a:moveTo>
                  <a:pt x="11632" y="3837"/>
                </a:moveTo>
                <a:lnTo>
                  <a:pt x="14208" y="6448"/>
                </a:lnTo>
                <a:lnTo>
                  <a:pt x="14208" y="4707"/>
                </a:lnTo>
                <a:lnTo>
                  <a:pt x="15984" y="4707"/>
                </a:lnTo>
                <a:lnTo>
                  <a:pt x="15984" y="8224"/>
                </a:lnTo>
                <a:lnTo>
                  <a:pt x="18595" y="10800"/>
                </a:lnTo>
                <a:lnTo>
                  <a:pt x="16941" y="10800"/>
                </a:lnTo>
                <a:lnTo>
                  <a:pt x="16941" y="17989"/>
                </a:lnTo>
                <a:lnTo>
                  <a:pt x="6323" y="17989"/>
                </a:lnTo>
                <a:lnTo>
                  <a:pt x="6323" y="10800"/>
                </a:lnTo>
                <a:lnTo>
                  <a:pt x="4669" y="10800"/>
                </a:lnTo>
                <a:close/>
              </a:path>
              <a:path fill="darkenLess" w="23264" h="21600">
                <a:moveTo>
                  <a:pt x="14208" y="6448"/>
                </a:moveTo>
                <a:lnTo>
                  <a:pt x="14208" y="4707"/>
                </a:lnTo>
                <a:lnTo>
                  <a:pt x="15984" y="4707"/>
                </a:lnTo>
                <a:lnTo>
                  <a:pt x="15984" y="8224"/>
                </a:lnTo>
                <a:close/>
              </a:path>
              <a:path fill="darkenLess" w="23264" h="21600">
                <a:moveTo>
                  <a:pt x="10709" y="14299"/>
                </a:moveTo>
                <a:lnTo>
                  <a:pt x="12555" y="14299"/>
                </a:lnTo>
                <a:lnTo>
                  <a:pt x="12555" y="17989"/>
                </a:lnTo>
                <a:lnTo>
                  <a:pt x="16941" y="17989"/>
                </a:lnTo>
                <a:lnTo>
                  <a:pt x="16941" y="10800"/>
                </a:lnTo>
                <a:lnTo>
                  <a:pt x="6323" y="10800"/>
                </a:lnTo>
                <a:lnTo>
                  <a:pt x="6323" y="17989"/>
                </a:lnTo>
                <a:lnTo>
                  <a:pt x="10709"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0:54:26Z</dcterms:created>
  <dc:creator>End User</dc:creator>
  <dc:description/>
  <dc:language>en-US</dc:language>
  <cp:lastModifiedBy>End User</cp:lastModifiedBy>
  <dcterms:modified xsi:type="dcterms:W3CDTF">2011-01-23T23:54:21Z</dcterms:modified>
  <cp:revision>14</cp:revision>
  <dc:subject/>
  <dc:title>PowerPoint Presentation</dc:title>
</cp:coreProperties>
</file>